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631C-F8E6-4012-A70D-430CB3D8E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7237-CA03-4F41-85B9-635B771F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C2E-44BD-4C04-A393-29050C09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70F-91D7-4609-BA58-DA91FF5D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CE0-DDBA-4EC4-AA6E-E9F6FCC7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42DF-9553-4053-8ECA-E35A86FE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DDC-9F8A-4790-AF2B-75A7E112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714-036B-4062-AED2-DAF10CC775E0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2A60-E2A3-4DC7-B07E-E0E322A856A0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E878-B55A-4A4A-874F-6B789032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3A7-1689-42D2-BB4B-ACF290B9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41320" y="730080"/>
            <a:ext cx="4979880" cy="37357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67960" y="4708080"/>
            <a:ext cx="4925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FCF-C8A9-47A4-A0EE-A851B83F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41320" y="730080"/>
            <a:ext cx="4979880" cy="37357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67960" y="4708080"/>
            <a:ext cx="4925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FEE-14B0-4F1D-9646-2E280DF52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841320" y="730080"/>
            <a:ext cx="4979880" cy="37357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67960" y="4708080"/>
            <a:ext cx="4925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9B9-9ADF-4507-A6F8-A8F61461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41320" y="730080"/>
            <a:ext cx="4979880" cy="37357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67960" y="4708080"/>
            <a:ext cx="4925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6397-A87D-45D1-9A6B-86A52B7A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41320" y="730080"/>
            <a:ext cx="4979880" cy="37357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67960" y="4708080"/>
            <a:ext cx="4925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direct causes include obstructed labor, complications from anaesthesia or caesarean section, ectopic pregna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causes include malaria, HIV/AIDS, heart 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6A2-E440-4F27-B843-75C9DE6FE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030-FF9B-4E92-B751-D99E27A0E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6EA4-747F-4EFB-A57B-61A304CC1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1AE-D5E0-49C3-BCA1-4FEAEFF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5BE-73EA-4416-A404-06DC8287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100-B027-49E5-AFC9-15D9FC58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B3D-20C4-4CBC-8F2F-8CE61E43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2470-EF75-412B-BB96-99090A8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51A-CFF6-4C75-8C59-E273C0C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0E6B-2ADB-49AA-8E12-F4D02DF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E52-1924-4D03-B705-730B2C6E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0A03-DE67-4A2E-9E40-CEBCB41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921-1B65-4A5D-93F6-C4561EF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44A-5F97-442B-9D25-ADDB4E9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CA2-06DA-488F-8A2B-BD6DD112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78DB-50E9-41C2-A76D-18BE42F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69C-9866-4D39-A58E-AD924E9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FC4-DBEE-43E8-9CB7-1ACE5CAF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872C-F37F-4882-B413-D48CB908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0490-0A3C-4826-B571-18D9E409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07A-192F-40B5-944D-9EA1CBE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C38-30D9-48DF-9A06-14FA544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9F5-565F-418C-A220-B864C80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F00-0AE0-441A-8717-C240D16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B29-9059-4356-9447-A65D50D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828-13CF-4299-A715-85BC793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230-63D5-468C-9BDB-D4A6B1B5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DF78-8D13-4A98-AF91-A09C5E44F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4b1a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b1a0"/>
                </a:solidFill>
                <a:latin typeface="Calibri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1919-F94B-41D1-9629-8D42A3C61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bIRTH%20HISTRY.docx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PNC.docx" TargetMode="External"/><Relationship Id="rId2" Type="http://schemas.openxmlformats.org/officeDocument/2006/relationships/hyperlink" Target="file:///PNC.docx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file:///HIV.docx" TargetMode="Externa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(LSIS) </a:t>
            </a:r>
            <a:br>
              <a:rPr sz="4000"/>
            </a:b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ົບຮົມນັກເດີນສຳຫຼວ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33526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າກຂໍ້ມູນກ່ຽວກັບແມ່ຍິງແລ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ຫວັດຂອງແມ່ຍິ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808200"/>
            <a:ext cx="883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ລະອຽດ ແລະ ວິທີການຈົດກ່າຍ</a:t>
            </a:r>
            <a:br>
              <a:rPr sz="4000"/>
            </a:b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ສ່ແບບສອບຖາ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miley Face 4"/>
          <p:cNvSpPr/>
          <p:nvPr/>
        </p:nvSpPr>
        <p:spPr>
          <a:xfrm>
            <a:off x="1676520" y="2971800"/>
            <a:ext cx="2057400" cy="18288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ysettha Lao"/>
              </a:rPr>
              <a:t>¨ö¡ªö¸µÈ¾¤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ubtitle 2"/>
          <p:cNvSpPr/>
          <p:nvPr/>
        </p:nvSpPr>
        <p:spPr>
          <a:xfrm>
            <a:off x="83808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Àìõº©Ä¹ì (Hemorrh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¦¾´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¾©¯Éº¤¡ñ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®ÒÃ¹É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ñ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À¡ó©¢›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Ä©É, ¹ìõ¦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¾©Á¡ÉÄ¢Ä©É«É¾¹¾¡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ñ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À¡ó©¢›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À»ñ©Á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¸Ã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ຜ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È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¡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¥ñ©ª˜¤¯½ªò®ñ©Â©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Á²©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ຜ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øÉ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ຊ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¿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ò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ຊ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¿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 Ã¹É¡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®ðìò¡¾­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©É¸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 êñ¡¦½ Áì½                 À£ˆº¤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ື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´ ê†²¼¤²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Saysettha Lao"/>
              </a:rPr>
              <a:t>¥÷©ê†£¸</a:t>
            </a:r>
            <a:r>
              <a:rPr b="1" lang="lo-LA" sz="3600" spc="-1" strike="noStrike">
                <a:solidFill>
                  <a:srgbClr val="c00000"/>
                </a:solidFill>
                <a:latin typeface="Saysettha Lao"/>
                <a:cs typeface="DokChampa"/>
              </a:rPr>
              <a:t>ນ</a:t>
            </a:r>
            <a:r>
              <a:rPr b="1" lang="en-US" sz="3600" spc="-1" strike="noStrike">
                <a:solidFill>
                  <a:srgbClr val="c00000"/>
                </a:solidFill>
                <a:latin typeface="Saysettha Lao"/>
              </a:rPr>
              <a:t>­Àºö¾Ã¥Ã¦ú (1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ubtitle 2"/>
          <p:cNvSpPr/>
          <p:nvPr/>
        </p:nvSpPr>
        <p:spPr>
          <a:xfrm>
            <a:off x="609480" y="403848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152280" y="4419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MM1 £í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¹¾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êñ¤Ïö©ê†À¡ó©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¿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È£ó¤¢º¤ì¾¸, 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š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È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ì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´êñ¤ì¾¸, ºÉ¾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¨Áì½Àºœº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¨¢º¤ì¾¸ ê†º¾©À¦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ຍຊ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ó¸ò©ÁìÉ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MM3 £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¹¾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êñ¤Ïö©ê†À¡ó©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¿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È£ó¤¢º¤ì¾¸, ¡Èº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ì¾¸À¡ó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0" y="942840"/>
            <a:ext cx="9448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ubtitle 2"/>
          <p:cNvSpPr/>
          <p:nvPr/>
        </p:nvSpPr>
        <p:spPr>
          <a:xfrm>
            <a:off x="609480" y="403848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6248520" y="22860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«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ñ­ (Á«¸ª˜¤) ê†ªˆ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´Ã¦ÈªÉº¤Àê‰¾¡ñ®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ê†®ñ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êô¡Ã¸ÉÃ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 MM1 ìö®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(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˜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È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 ºÉ¾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ຍ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Áì½Àºœº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ຍ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¢º¤ì¾¸ êñ¤Ïö©ê†À¡ó©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¿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ມ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È£ó¤¢º¤ì¾¸ìö®Ã¹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  <a:cs typeface="DokChampa"/>
              </a:rPr>
              <a:t>ຜ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øÉ«õ¡ ¦¿²¾©¡Ò£õ ì¾¸Àº¤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943600" cy="5727600"/>
          </a:xfrm>
          <a:prstGeom prst="rect">
            <a:avLst/>
          </a:prstGeom>
          <a:ln w="0">
            <a:noFill/>
          </a:ln>
        </p:spPr>
      </p:pic>
      <p:sp>
        <p:nvSpPr>
          <p:cNvPr id="391" name="Title 4"/>
          <p:cNvSpPr/>
          <p:nvPr/>
        </p:nvSpPr>
        <p:spPr>
          <a:xfrm>
            <a:off x="380880" y="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¥</a:t>
            </a:r>
            <a:r>
              <a:rPr b="1" lang="lo-LA" sz="4000" spc="-1" strike="noStrike">
                <a:solidFill>
                  <a:srgbClr val="c00000"/>
                </a:solidFill>
                <a:latin typeface="Saysettha Lao"/>
                <a:cs typeface="DokChampa"/>
              </a:rPr>
              <a:t>ຸ</a:t>
            </a: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©ê†£¸­</a:t>
            </a:r>
            <a:r>
              <a:rPr b="1" lang="lo-LA" sz="4000" spc="-1" strike="noStrike">
                <a:solidFill>
                  <a:srgbClr val="c00000"/>
                </a:solidFill>
                <a:latin typeface="Saysettha Lao"/>
                <a:cs typeface="DokChampa"/>
              </a:rPr>
              <a:t>ນ</a:t>
            </a: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Àºö¾Ã¥Ã¦ú (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ubtitle 2"/>
          <p:cNvSpPr/>
          <p:nvPr/>
        </p:nvSpPr>
        <p:spPr>
          <a:xfrm>
            <a:off x="609480" y="403848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6324480" y="5335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ຊ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š®º¡À«ò¤ª¿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ໜ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ú¤ ¢º¤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ຜ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øÉªº®¦¿²¾©µøÈÃ­ª¾ª½ì¾¤Â©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¡¾­¦É¾¤Ã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®Èº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 ¢¸¾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¥¿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«ñ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¡Èº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ª¿Á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ໜ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È¤­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šªÉº¤Àê‰¾¡ñ® ¥¿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ê†Ä©É®ñ</a:t>
            </a:r>
            <a:r>
              <a:rPr b="0" lang="lo-LA" sz="24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Lao"/>
              </a:rPr>
              <a:t>­êô¡ µøÈ MM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Multiply 6"/>
          <p:cNvSpPr/>
          <p:nvPr/>
        </p:nvSpPr>
        <p:spPr>
          <a:xfrm>
            <a:off x="4114800" y="914400"/>
            <a:ext cx="533520" cy="457200"/>
          </a:xfrm>
          <a:custGeom>
            <a:avLst/>
            <a:gdLst/>
            <a:ahLst/>
            <a:rect l="l" t="t" r="r" b="b"/>
            <a:pathLst>
              <a:path w="533400" h="457200">
                <a:moveTo>
                  <a:pt x="93118" y="150631"/>
                </a:moveTo>
                <a:lnTo>
                  <a:pt x="163100" y="68985"/>
                </a:lnTo>
                <a:lnTo>
                  <a:pt x="266700" y="157785"/>
                </a:lnTo>
                <a:lnTo>
                  <a:pt x="370300" y="68985"/>
                </a:lnTo>
                <a:lnTo>
                  <a:pt x="440282" y="150631"/>
                </a:lnTo>
                <a:lnTo>
                  <a:pt x="349317" y="228600"/>
                </a:lnTo>
                <a:lnTo>
                  <a:pt x="440282" y="306569"/>
                </a:lnTo>
                <a:lnTo>
                  <a:pt x="370300" y="388215"/>
                </a:lnTo>
                <a:lnTo>
                  <a:pt x="266700" y="299415"/>
                </a:lnTo>
                <a:lnTo>
                  <a:pt x="163100" y="388215"/>
                </a:lnTo>
                <a:lnTo>
                  <a:pt x="93118" y="306569"/>
                </a:lnTo>
                <a:lnTo>
                  <a:pt x="184083" y="228600"/>
                </a:lnTo>
                <a:lnTo>
                  <a:pt x="93118" y="15063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152280" y="984240"/>
            <a:ext cx="6096240" cy="5873760"/>
          </a:xfrm>
          <a:prstGeom prst="rect">
            <a:avLst/>
          </a:prstGeom>
          <a:ln w="0">
            <a:noFill/>
          </a:ln>
        </p:spPr>
      </p:pic>
      <p:sp>
        <p:nvSpPr>
          <p:cNvPr id="396" name="Title 4"/>
          <p:cNvSpPr/>
          <p:nvPr/>
        </p:nvSpPr>
        <p:spPr>
          <a:xfrm>
            <a:off x="380880" y="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¥</a:t>
            </a:r>
            <a:r>
              <a:rPr b="1" lang="lo-LA" sz="4000" spc="-1" strike="noStrike">
                <a:solidFill>
                  <a:srgbClr val="c00000"/>
                </a:solidFill>
                <a:latin typeface="Saysettha Lao"/>
                <a:cs typeface="DokChampa"/>
              </a:rPr>
              <a:t>ຸ</a:t>
            </a: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©ê†£¸­Àºö¾Ã¥Ã¦ú (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ubtitle 2"/>
          <p:cNvSpPr/>
          <p:nvPr/>
        </p:nvSpPr>
        <p:spPr>
          <a:xfrm>
            <a:off x="609480" y="403848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6553080" y="533520"/>
            <a:ext cx="2438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«É¾êÈ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ªˆ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´ MM8 (¥¿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¸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¯ó¹ìñ¤ ¥¾¡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¨) Áì½ MM9 (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À¸ì¾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), 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šÁ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È­®º¡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ºÉ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¹ìõÀºœº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,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Á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È­Àê‰¾Ã©«É¾¸È¾ì¾¸ 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ñ¤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ີຊ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ó¸ò©Ã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œ­š. ¡¾­£ò©ÄìÈ­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š ¦É¾¤¢›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À²ˆº ¡¸©¡¾À®…¤¸È¾ºÉ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Áì½Àºœº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Ä©É ®ñ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êô¡«õ¡ªÉº¤ 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ì¿©ñ®¹ìõ®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0" y="3429000"/>
            <a:ext cx="2590920" cy="457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0" y="3733920"/>
            <a:ext cx="2590920" cy="457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6251400" cy="6022800"/>
          </a:xfrm>
          <a:prstGeom prst="rect">
            <a:avLst/>
          </a:prstGeom>
          <a:ln w="0">
            <a:noFill/>
          </a:ln>
        </p:spPr>
      </p:pic>
      <p:sp>
        <p:nvSpPr>
          <p:cNvPr id="402" name="Title 4"/>
          <p:cNvSpPr/>
          <p:nvPr/>
        </p:nvSpPr>
        <p:spPr>
          <a:xfrm>
            <a:off x="380880" y="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¥</a:t>
            </a:r>
            <a:r>
              <a:rPr b="1" lang="lo-LA" sz="4000" spc="-1" strike="noStrike">
                <a:solidFill>
                  <a:srgbClr val="c00000"/>
                </a:solidFill>
                <a:latin typeface="Saysettha Lao"/>
                <a:cs typeface="DokChampa"/>
              </a:rPr>
              <a:t>ຸ</a:t>
            </a: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÷©ê†£¸­Àºö¾Ã¥Ã¦ú (4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ubtitle 2"/>
          <p:cNvSpPr/>
          <p:nvPr/>
        </p:nvSpPr>
        <p:spPr>
          <a:xfrm>
            <a:off x="609480" y="403848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6553080" y="533520"/>
            <a:ext cx="2438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«É¾¸È¾µøÈ MM9, (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À¸ì¾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), 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ຜ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øÉªº®¦¿²¾© ®º¡¸È¾ì¾¸®Ò»øÉ, µõ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¡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ê†¥½£¾© £½À­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. ´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ñ¡¥½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ó ¡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 ¯½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¹ì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¡¸È¾ê†¥½®ÒÃ¦È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Àìó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. À«ò¤µÈ¾¤Ã©¡Ò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, «É¾¸È¾ ºÉ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¹ìõ Àºœº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ª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À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ˆº À¸ì¾ì¾¸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ñ¤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­Éº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Ã¹É®ñ­êô¡º¾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ຍຸ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À¯ñ­</a:t>
            </a:r>
            <a:r>
              <a:rPr b="0" lang="lo-LA" sz="2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 </a:t>
            </a:r>
            <a:r>
              <a:rPr b="0" lang="en-GB" sz="2200" spc="-1" strike="noStrike">
                <a:solidFill>
                  <a:srgbClr val="002060"/>
                </a:solidFill>
                <a:latin typeface="Saysettha Lao"/>
              </a:rPr>
              <a:t>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-228600" y="3733920"/>
            <a:ext cx="2590920" cy="457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76320" y="880920"/>
            <a:ext cx="6122880" cy="5900760"/>
          </a:xfrm>
          <a:prstGeom prst="rect">
            <a:avLst/>
          </a:prstGeom>
          <a:ln w="0">
            <a:noFill/>
          </a:ln>
        </p:spPr>
      </p:pic>
      <p:sp>
        <p:nvSpPr>
          <p:cNvPr id="407" name="Title 4"/>
          <p:cNvSpPr/>
          <p:nvPr/>
        </p:nvSpPr>
        <p:spPr>
          <a:xfrm>
            <a:off x="380880" y="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¥</a:t>
            </a:r>
            <a:r>
              <a:rPr b="1" lang="lo-LA" sz="4000" spc="-1" strike="noStrike">
                <a:solidFill>
                  <a:srgbClr val="c00000"/>
                </a:solidFill>
                <a:latin typeface="Saysettha Lao"/>
                <a:cs typeface="DokChampa"/>
              </a:rPr>
              <a:t>ຸ</a:t>
            </a:r>
            <a:r>
              <a:rPr b="1" lang="en-US" sz="4000" spc="-1" strike="noStrike">
                <a:solidFill>
                  <a:srgbClr val="c00000"/>
                </a:solidFill>
                <a:latin typeface="Saysettha Lao"/>
              </a:rPr>
              <a:t>©ê†£¸­Àºö¾Ã¥Ã¦ú (5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ສໍາຫລວດດັດສະນີໝາຍສັງຄົມລາວ ການອົບຮົມນັກເດີນສໍາຫລວ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ໍາລັບແມ່ຍິ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ັດຕາການຕາຍຂອງເດັ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ຫວັດການເກີ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590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300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ແທກອັດຕາການຕາຍຂອງເດັກອອ່ນ ແລະ ເດັກລຸ່ມ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5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ແທກອັດຕາການເກີດລູກ ແລະ ການຖືພາກ່ອນກໍານົດຂອງແມ່ຍິ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ພື່ອກໍານົດກຸ່ມເປົ້າໝາຍທີ່ຈະຖືກສໍາພາດ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ມີການເກີດມີຊີວິດພາຍໃນ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 ຜ່ານມາກໍໝາຍຄວາມວ່າແມ່ຍິງຜູ້ນັ້ນແມ່ນເປົ້າໝາຍທີ່ຈະຖືກສໍາພາດຢູ່ໃນພາກສຸຂະພາບຂອງແມ່ ແລະ ເດັກເກີດໃໝ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ເກັບກໍາຂໍ້ມູນຂ່າວສາ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42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ວລາຂອງການເກີດມີຊີວິດຄັ້ງທໍາອິ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ວລາຂອງການເກີດມີຊີວິດຄັ້ງສຸດທ້າ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ໍ້ມູນສໍາລັບການເກີດທີ່ມີຊີວິດທັງໝົດ</a:t>
            </a:r>
            <a:r>
              <a:rPr b="0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ັບທັງເດັກທີ່ຍັງມີຊີວິດຢູ່ໃນປະຈຸບັນ ແລະ ເດັກທີ່ເສັຽຊີວິ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າກນີ້ຈະໄດ້ຖາມແມ່ຍິງທຸກຄົນທີ່ມີອາຍຸ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15-49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ໍາຖາມທັງໝົດແມ່ນສຸມໃສ່ພຽງແຕ່ການເກີດມີຊີວິດ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ທີ່ເກີດມາມີການຫາຍໃຈ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ລືຮ້ອງໄຫ້ ຫລື ສະແດງເຖິງອາການຊີວິດ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-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ຖິງແມ່ນວ່າເດັກນ້ອຍນັ້ນຈະມີຊີວິດຢູ່ ບໍ່ພໍເທົ່າໃດນາທີ່ ຫລື ບໍ່ພໍເທົ່າໃດຊົ່ວໂມງກໍຕາມ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ຸກກໍລະນີຂອງການເກີດແຕ່ຕາຍໃນທ້ອງ ຫລື ຫລຸລູກ ຫລື ລູກລ້ຽງ ຫລື ລູກຂອງຜົວທີ່ເກີດນໍາເມັຽຜູ້ກ່ອນ ແມ່ນບໍ່ໄດ້ນັບເຂົ້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ທີ່ຄວນເອົາໃຈໃສ່ 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ea typeface="Saysettha OT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ຕໍ່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ຢູ່ໃນພາກຂອງປະຫວັດການເກີດ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ຄວາມຈໍາເປັນທີ່ຕ້ອງໄດ້ບັນທຶກຢ່າງຄົບຖ້ວນບັນດາລາຍການກ່ຽວກັບການເກີດທັງໝົດເຊີ່ງເລີ້ມຕົ້ນແຕ່ເກີດລູກຜູ້ທໍາອິດມາຮອດປະຈຸບັນຕາມລໍາດັ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່ອນອື່ນໝົດແມ່ນຊື່ຂອງລູກທັງໝົດທຸກຄົ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ມທັງລູກທີ່ເກີດກັບຜົວຜູ້ກ່ອ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ວ່າເດັກອ່ອນທີ່ຫາກໍ່ເກີດບໍ່ທັນຕັ້ງຊື່ກໍແມ່ນໃຫ້ໃສ່ຊື່ວ່າ ແອນ້ອ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ພຽງແຕ່ການເກີດເດັກທີ່ຕາຍໃນທ້ອງທີ່ເຮົາບໍ່ນັບເຂົ້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1920" y="9144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ໄລຍະໃດກໍຕາມຖ້າວ່າທ່ານຫາກສັງເກດເຫັນເດັກບໍ່ໄດ້ຈົດລຽງຕາມລໍາດັບແມ່ນບໍ່ໃຫ້ລືບຂໍ້ມູນນັ້ນອອ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ຽງແຕ່ທ່ານແປງນໍ້າເບີແຖວຕາມລໍາດັບຂອງການເກີດ ແລະຂີດລູກສອນໄປໃສ່ລໍາດັບທີ່ສະແດງເຖິງຄວາມຖືກຕ້ອງ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າຍຫລັງທີ່ຈົດຊື່ຂອງເດັກທັງໝົດລຽງລໍາດັບ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ຖາມວ່າແມ່ນເດັກນ້ອຍຜູ້ໃດທີ່ແມ່ນຜາແຝ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ໍາຖາມຂໍ້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BH1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BH2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ມ່ນຕ້ອງຕື່ມໃສ່ຕາມແນວຕັ້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8534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ທີ່ຄວນເອົາໃຈໃສ່ 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ea typeface="Saysettha OT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ຕໍ່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ລັງຈາກນັ້ນແມ່ນເລີ້ມຕົ້ນຈາກ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BH3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າ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BH10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າມຄໍາຖາມສະເພາ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ຄວາມຈໍາເປັນຈະຕ້ອງກວດກາຄວາມສອດຄ່ອງລະຫວ່າງ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CM10 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ຈໍານວນເກີດ ຢູ່ໃນປະຫວັດການເກີ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ືອນ ແລະ ປີ ເກີດຂອງເດັກຢູ່ໃນປະຫວັດການເກີດແມ່ນບໍ່ອານຸຍາດໃຫ້ໝາຍ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ໍ່ຮູ້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ຊີ່ງມັນຕ່າງກັບການຂຶ້ນທະບຽນຄົວເຮືອ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ໍາພາດຈະຕ້ອງໄດ້ ຢັ້ງຢືນ ແລະ ຄາດຄະເນ ໃຫ້ຖືກຕ້ອງຕາມ ເດືອນ ແລະ ປີ ຂອງເດັກເກີດ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BH4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BH6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ມ່ນບໍ່ອານຸຍາດໃຫ້ມີເປົ່າຫວ່າງ ຫລື ບໍ່ຮູ້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48769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Saysettha OT"/>
                <a:cs typeface="Saysettha OT"/>
                <a:hlinkClick r:id="rId1"/>
              </a:rPr>
              <a:t>ປະຫວັດການ</a:t>
            </a:r>
            <a:r>
              <a:rPr b="1" lang="en-US" sz="40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ກີ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ject 2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Saysettha OT"/>
                <a:cs typeface="Saysettha OT"/>
              </a:rPr>
              <a:t>ການອົບຮົມນັກເດີນສຳຫຼວດ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ື່ໂຄສະນ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ວັດຖຸ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Saysettha OT"/>
              </a:rPr>
              <a:t>ເພື່ອໃ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້ໄດ້ມາຊື່ງຂໍ້ມູນຂ່າວສານຂອງແມ່ຍິງທີ່ມີອາຍຸແຕ່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15​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-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49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 ຢູ່ໃນຄົວເຮືອ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¡¿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ö©Á´È¨ò¤ê†À¯ñ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À¯í¾Ï¾¨¦¿ìñ® Á®®-¦º®«¾´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ea typeface="DokChamp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š²¾¨Íñ¤ê†¦¿Àìñ©¡¾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¢œ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®ñ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§ó£ö¸À»õº­Ã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Á®®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ea typeface="DokChamp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¦º®«¾´£ö¸À»õº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Á´È¨ò¤À¯í¾Ï¾¨ Ã­-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Á®®¦º®«¾´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šÁ´È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Á´È¨ò¤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ea typeface="DokChamp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ê†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ea typeface="DokChamp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«õ¡¢œ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®ñ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§óÃ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®ñ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§ó£ö¸À»õº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ê†´óº¾¨÷ÁªÈ 15Œ49 ¯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64a2"/>
                </a:solidFill>
                <a:latin typeface="Saysettha Unicode"/>
                <a:cs typeface="Saysettha Unicode"/>
              </a:rPr>
              <a:t>ຈຸດ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998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ພາກນີ້ ແມ່ນເກັບກຳຂໍ້ມູນຂ່າວສານ ກ່ຽວກັບການໂຄສະນາເຜີຍແຜ່ວຽກງານຂອງເພດຍິງ</a:t>
            </a:r>
            <a:r>
              <a:rPr b="0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ນຳໃຊ້ ແລະການເຂົ້າເຖີງ ຄອມພີວເຕີ ແລະອີນເຕີເນັດ</a:t>
            </a:r>
            <a:r>
              <a:rPr b="0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ພາກນີ້ ປະກອບມີ </a:t>
            </a:r>
            <a:r>
              <a:rPr b="0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3 </a:t>
            </a:r>
            <a:r>
              <a:rPr b="0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ູ່ມຄຳຖາ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T2-WT4) 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ເຂົ້າເຖີງສື່ໂຄສະນາເລື້ອຍ ປານໃດ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T6-WT8) 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ອມພີວເຕ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T9-WT11) 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ິນເຕີເນ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80880" y="12193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aysettha Unicode"/>
                <a:cs typeface="Saysettha Unicode"/>
              </a:rPr>
              <a:t>ຄຳແນະນ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່ອນເລີ້ມສຳພາດພາກນີ້ ໃຫ້ກວດເບີ່ງ ຄຳຖາມ </a:t>
            </a:r>
            <a:r>
              <a:rPr b="0" lang="en-US" sz="32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B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T1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ີ້ ແມ່ນເລັ່ງໃສ່ຜູ້ຕອບທີ່ບໍ່ສາມາດອ່ານໜັງສືໄດ້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່ງນັ້ນ ຄຳຖາມ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T2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່ຽວພັນກັບການອ່ານໜັງສືພີມ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ໍ່ແມ່ນຖາມກ່ຽວກັບຜູ້ຕອ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ວ່າ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B7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ໍ່ມີຄຳຕອບ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ໜາຍວ່າ ຜູ້ຕອບມີລະດັບການສຶກຂັ້ນມັດທະຍົມຂື້ນໄປ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ັກເດີນສຳຫລວດຄວນສືບຕໍ່ຖາມຄຳຖາມ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T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ວ່າ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B7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ຄຳຕອບ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2’, ‘3’, or ‘4’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ສືບຕໍ່ຖາມ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T2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ວ່າ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B7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ຄຳຕອບ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is ‘1’ or ‘5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ໜາຍວ່າຜູ້ຕອບບໍ່ສາມາດອ່ານໄດ້ ຫລືພິການທາງສາຍຕາ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;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ຂ້າມໄປ 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WT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609480" y="9907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6"/>
          <p:cNvSpPr/>
          <p:nvPr/>
        </p:nvSpPr>
        <p:spPr>
          <a:xfrm>
            <a:off x="7086600" y="5257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WT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ຈຸດປະສົງຂອງຄຳຖາມນີ້ ເພື່ອຊອກວ່າມີຜູ້ຕອບຄຳຖາມຜູ້ໃດແດ່ໄດ້ຮັບຂໍ້ມູນຂ່າວສານຈາກຂ້າງນອກ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(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ນອກຊຸມຊົນຂອງລາວ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)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ໄດ້ຮັບເລື້ອຍປານໃດຈາກການອ່ານໜັງສືພິມ ແລະ ວາລະສານ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ຜູ້ຕອບຄຳຖາມຜູ້ໃດບອກວ່າລາວອ່ານໜັງສືພິມທາງອິນເຕີເນັດ ຖືວ່າລາວໄດ້ອ່ານໜັງສືພິມ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ຈຸດປະສົງໃນການເກັບກຳຂໍ້ມູນ ແມ່ນເພ່ືອເບິ່ງການເຂົ້າເຖິງຂໍ້ມູນຂ່າວສານທາງໜັງສືພິມ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ລະ ເລື້ອຍປານໃດ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228600" y="4549680"/>
          <a:ext cx="891540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49680"/>
                    <a:ext cx="891540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17"/>
          <p:cNvSpPr/>
          <p:nvPr/>
        </p:nvSpPr>
        <p:spPr>
          <a:xfrm>
            <a:off x="457200" y="914400"/>
            <a:ext cx="822960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7"/>
          <p:cNvSpPr/>
          <p:nvPr/>
        </p:nvSpPr>
        <p:spPr>
          <a:xfrm>
            <a:off x="7238880" y="4952880"/>
            <a:ext cx="304920" cy="304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W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5998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ວິທະຍຸແມ່ນອຸປະກອນຮັບສັນຍານກະຈາຍສຽງມັກໃຊ້ເລື້ອຍໆ ເຊັ່ນ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 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ຄື້ນ 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FM, AM, LW and SW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ເຂົ້າເຖິງວິທະຍຸກະຈ່າຍສຽງທາງອິນເຕີແນັດ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ຄືອຄາຍ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ຫລືທາງ ອື່ນໆກໍແມ່ນລວມຢູ່ໃນນີ້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ທາງໃດກໍຕາມຖືວ່າພວກເຮົາຖືວ່າຜູ້ຕອບມີອິດທິພົນຈາກການກະຈາຍສຽງຂອງວິທະຍຸ</a:t>
            </a:r>
            <a:r>
              <a:rPr b="0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28600" y="4317840"/>
            <a:ext cx="9105840" cy="1549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"/>
          <p:cNvSpPr/>
          <p:nvPr/>
        </p:nvSpPr>
        <p:spPr>
          <a:xfrm>
            <a:off x="457200" y="12193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6"/>
          <p:cNvSpPr/>
          <p:nvPr/>
        </p:nvSpPr>
        <p:spPr>
          <a:xfrm>
            <a:off x="7315200" y="48006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WT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1426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ໂທລະພາບ ແມ່ນອຸປະກອນຮັບສັນຍານການກະຈາຍພາບ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ປັນທີ່ນິຍົມນຳໃຊ້ຫລາຍເຊັ່ນ ຫລັກອາກາດ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ຄືອຄາຍເຄເບິນ ແລະ ຈານດາວທຽມ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ຖິງແນວໃດກໍຕາມ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ຫາກຜູ້ຕອບຄຳຖາມເບິ່ງໂທລະພາບຜ່ານທາງອິນເຕິແນັດ ຫລື ອ່ືນໆກໍຖືວ່າລາວໄດ້ເບິ່ງໂທລະພາບ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ຊັ່ນດຽວກັນກັບຜູ້ຕອບຄຳຖາມຄົນອື່ນໆທີ່ລາວເບິ່ງໂທລະພາບປົກກະຕິ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ບິ່ງແຕ່ດົນມາແລ້ວ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49320" y="4114800"/>
            <a:ext cx="939960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7"/>
          <p:cNvSpPr/>
          <p:nvPr/>
        </p:nvSpPr>
        <p:spPr>
          <a:xfrm>
            <a:off x="457200" y="914400"/>
            <a:ext cx="822960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WT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T5.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ວດ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B2: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ອາຍຸຜູ້ຕອບຄຳຖາມ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15-24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ປີ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 </a:t>
            </a:r>
            <a:r>
              <a:rPr b="0" lang="en-US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</a:t>
            </a:r>
            <a:r>
              <a:rPr b="0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ມ່ນ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ອາຍຸ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15-24 </a:t>
            </a:r>
            <a:r>
              <a:rPr b="0" i="1" lang="en-US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ືບຕໍ່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ຂໍ້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T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 </a:t>
            </a:r>
            <a:r>
              <a:rPr b="0" lang="en-US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</a:t>
            </a:r>
            <a:r>
              <a:rPr b="0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ບໍ່ແມ່ນ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ອາຍຸ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25-49 </a:t>
            </a:r>
            <a:r>
              <a:rPr b="0" i="1" lang="en-US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ໄປ     ໂມດູນຕໍ່ໄ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800240" y="25142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T6.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ທ່ານເຄີຍໃຊ້ຄອມພີວເຕີ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ມ່ນ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ບໍ່ແມ່ນ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2 </a:t>
            </a:r>
            <a:r>
              <a:rPr b="0" lang="en-GB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WT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Multiply 5"/>
          <p:cNvSpPr/>
          <p:nvPr/>
        </p:nvSpPr>
        <p:spPr>
          <a:xfrm>
            <a:off x="609480" y="289548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47859" y="98551"/>
                </a:moveTo>
                <a:lnTo>
                  <a:pt x="98551" y="47859"/>
                </a:lnTo>
                <a:lnTo>
                  <a:pt x="152400" y="101708"/>
                </a:lnTo>
                <a:lnTo>
                  <a:pt x="206249" y="47859"/>
                </a:lnTo>
                <a:lnTo>
                  <a:pt x="256941" y="98551"/>
                </a:lnTo>
                <a:lnTo>
                  <a:pt x="203092" y="152400"/>
                </a:lnTo>
                <a:lnTo>
                  <a:pt x="256941" y="206249"/>
                </a:lnTo>
                <a:lnTo>
                  <a:pt x="206249" y="256941"/>
                </a:lnTo>
                <a:lnTo>
                  <a:pt x="152400" y="203092"/>
                </a:lnTo>
                <a:lnTo>
                  <a:pt x="98551" y="256941"/>
                </a:lnTo>
                <a:lnTo>
                  <a:pt x="47859" y="206249"/>
                </a:lnTo>
                <a:lnTo>
                  <a:pt x="101708" y="152400"/>
                </a:lnTo>
                <a:lnTo>
                  <a:pt x="47859" y="9855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ight Arrow 6"/>
          <p:cNvSpPr/>
          <p:nvPr/>
        </p:nvSpPr>
        <p:spPr>
          <a:xfrm>
            <a:off x="4267080" y="3200400"/>
            <a:ext cx="83844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457200" y="12193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"/>
          <p:cNvSpPr/>
          <p:nvPr/>
        </p:nvSpPr>
        <p:spPr>
          <a:xfrm>
            <a:off x="457200" y="152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Saysettha OT"/>
                <a:cs typeface="Saysettha OT"/>
              </a:rPr>
              <a:t>ຄອມພີວເຕ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6320" y="41990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ບໍ່ສຳຄັນວ່າໃຜຈະເປັນເຈົ້າຂອງຄອມພິວເຕີ໊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ຜູ້ຕອບຄຳຖາມໄດ້ນຳໃຊ້ຢູ່ໃນຄົວເຮືອນ ຫລື ສະຖານທີ່ອື່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52117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ືວ່າຜູ້ຕອບຄຳຖາມໄດ້ໃຊ້ຄອມພີວເຕີໃນໄລຍະ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12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ດືອນຜ່ານມ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(WT7 = 1)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ບາງທີ່ ລາວອາດຕອບວ່າບໍ່ໄດ້ໃຊ້ເລີຍໃນຄຳຖາມນີ້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	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ຕ່ລາວບອກວ່າໃຊ້ຫວ່າງເດືອນແລ້ວນີ້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ມ່ນຢູ່ໃນໄລຍະ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12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ດືອນຜ່ານມ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517680" y="1355760"/>
          <a:ext cx="832140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1355760"/>
                    <a:ext cx="83214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7"/>
          <p:cNvSpPr/>
          <p:nvPr/>
        </p:nvSpPr>
        <p:spPr>
          <a:xfrm>
            <a:off x="457200" y="838080"/>
            <a:ext cx="822960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le 1"/>
          <p:cNvSpPr/>
          <p:nvPr/>
        </p:nvSpPr>
        <p:spPr>
          <a:xfrm>
            <a:off x="0" y="152280"/>
            <a:ext cx="8915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ອິນເຕີແນັ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04920" y="45720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ຖິງຜູ້ໃດຈະເວົ້າວ່າ ບໍ່ເຄີຍໃຊ້ຄອມພີວເຕີ້ ແລະປະຈຸບັນກໍບໍ່ໄດ້ໃຊ້ຄອມພີວເຕີ້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ພວກເຮົາກໍຍັງຕ້ອງຖາມເຖິງການນຳໃຊ້ອິນເຕີເນັດ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ຍ້ອນວ່າຜູ້ຕອບຄຳຖາມອາດໃຊ້ອິນເຕີເນັດທາງໂທລະສັບມືຖື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ລະບົບດີຈີຕອນຂອງສ່ວນບຸກຄົນ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ຄື່ອງຫລິ້ນເກມ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0" lang="en-GB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ລະບົບໂທລະພາບດີຈີຕອນ ແລະເຄື່ອງອື່ນໆທີ່ຄ້າຍຄືກັນ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609480" y="1268280"/>
          <a:ext cx="838224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68280"/>
                    <a:ext cx="83822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457200" y="914400"/>
            <a:ext cx="822960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ສຳຫຼວດດັດສະນີໝາຍສັງລາວ </a:t>
            </a:r>
            <a:r>
              <a:rPr b="0" lang="en-US" sz="3600" spc="-1" strike="noStrike">
                <a:solidFill>
                  <a:srgbClr val="000000"/>
                </a:solidFill>
                <a:latin typeface="Saysettha OT"/>
                <a:ea typeface="Saysettha OT"/>
              </a:rPr>
              <a:t>(LSIS)</a:t>
            </a:r>
            <a:br>
              <a:rPr sz="3600"/>
            </a:br>
            <a:r>
              <a:rPr b="0" lang="en-US" sz="2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ຝຶກອົບຮົມນັກເດີນສຳຫຼວດ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ຕ້ອງການລູກຜູ້ສຸດທ້າ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າບລວມ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1907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ໍ້ມູນກ່ຽວກັບແມ່ຍິ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ຫວັດຂອງແມ່ຍິ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ເຂົ້າເຖ</a:t>
            </a: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ິ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ງສື່ສານມວນຊົ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ຕາຍຂອງເດັ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ປະຫວ</a:t>
            </a:r>
            <a:r>
              <a:rPr b="1" lang="lo-LA" sz="2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ັ</a:t>
            </a:r>
            <a:r>
              <a:rPr b="1" lang="en-US" sz="2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ດການເກີ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ຕ້ອງ</a:t>
            </a: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ູກຜູ້ສຸດທ້າ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ຸຂະພາບຂອງແມ່ ແລະ ເດັກເກີດໃໝ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ກວດສຸຂະພາບຫລ</a:t>
            </a: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ັ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ງເກີ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952880" y="1219320"/>
            <a:ext cx="3962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າການຂອງພະຍາ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ຄຸມກຳເນີ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ບໍ່ເຂົ້າເຖ</a:t>
            </a: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ິ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ງການບໍລິການວາງແຜນຄອບຄົ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ັດສະນະຄະຕິຕໍ່ການໃຊ້ຄວາມຮຸນແຮງໃນຄອບຄົ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ແຕ່ງງານ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ຢູ່ຮ່ວມກັ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ືດຕິກຳໃນການຮ່ວມເພ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ຊື້ອເຮັດໄອວີ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ະຍາດເອ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c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ຕາຍຂອງແມ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52280" y="14400"/>
            <a:ext cx="876312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ິ່ງທີ່ຄວນເອົາໃຈໃສ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06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ພາກນີ້ ແມ່ນສຳພາດແມ່ຍິງໝົດທຸກຄົນ ທີ່ເຄີຍເກີດລູກມີຊີວິດ ໃນ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ຜ່ານມາກ່ອນການສຳພາດ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ວດເບິ່ງພາກການຕາຍຂອງເດັກ ໃນຄຳຖາມ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CM13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ບັນທຶກຊື່ຂອງເດັກທີ່ເກີດຜູ້ສຸດທ້າຍ ໃສ່ບ່ອນຫວ່າງທີ່ກຳນົດໃຫ້ ຢູ່ເບື້ອງເທິງຂອງພາກນີ້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ລັບຄຳຖາມ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DB3,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ຫາກຜູ້ຖຶກສຳພາດ ຕອບເດືອນ ແມ່ນໃຫ້ຂີດວົງອ້ອມເອົາ ລະຫັດຄຳຕອບ ແລະ ບັນທຶກເດືອນໃສ່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ຫາກລາວຕອບປີ ແມ່ນໃຫ້ໝາຍລະຫັດຄຳຕອບ “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2”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ບັນທຶກປີໃສ່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3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LSIS)</a:t>
            </a:r>
            <a:br>
              <a:rPr sz="3200"/>
            </a:b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</a:t>
            </a:r>
            <a:r>
              <a:rPr b="1" lang="lo-LA" sz="29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ອົບຮົມນັກເດີນສຳຫຼວດ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r>
              <a:rPr b="0" lang="en-GB" sz="3600" spc="-1" strike="noStrike">
                <a:solidFill>
                  <a:srgbClr val="898989"/>
                </a:solidFill>
                <a:latin typeface="Saysettha OT"/>
                <a:ea typeface="Saysettha O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ຸຂະພາບຂອງແມ່ ແລະ ເດັກເກີດໃໝ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57200" y="30481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381024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ຸກໆປີ </a:t>
            </a:r>
            <a:r>
              <a:rPr b="0" lang="en-US" sz="2700" spc="-1" strike="noStrike">
                <a:solidFill>
                  <a:srgbClr val="000000"/>
                </a:solidFill>
                <a:latin typeface="Saysettha OT"/>
                <a:ea typeface="Saysettha OT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ຕາຍຂອງແມ່ ມີຫຼາຍກວ່າເຄິ່ງລ້າ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ະມານ </a:t>
            </a:r>
            <a:r>
              <a:rPr b="0" lang="en-US" sz="2700" spc="-1" strike="noStrike">
                <a:solidFill>
                  <a:srgbClr val="000000"/>
                </a:solidFill>
                <a:latin typeface="Saysettha OT"/>
                <a:ea typeface="Saysettha OT"/>
              </a:rPr>
              <a:t>10</a:t>
            </a:r>
            <a:r>
              <a:rPr b="0" lang="lo-LA" sz="27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ລ້ານ ຄົນ ໄດ້ຮັບບາດເຈັບ ຫລື ພິການ ທີ່ກຽວພັນກັບການ ການຖືພາ</a:t>
            </a:r>
            <a:r>
              <a:rPr b="0" lang="en-US" sz="2700" spc="-1" strike="noStrike">
                <a:solidFill>
                  <a:srgbClr val="000000"/>
                </a:solidFill>
                <a:latin typeface="Saysettha OT"/>
                <a:ea typeface="Saysettha OT"/>
              </a:rPr>
              <a:t>/</a:t>
            </a: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ກີດລູ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ຕາຍຂອງເດັກອ່ອນ ປະມານ </a:t>
            </a:r>
            <a:r>
              <a:rPr b="0" lang="lo-LA" sz="2700" spc="-1" strike="noStrike">
                <a:solidFill>
                  <a:srgbClr val="000000"/>
                </a:solidFill>
                <a:latin typeface="Saysettha OT"/>
                <a:ea typeface="Saysettha OT"/>
              </a:rPr>
              <a:t>4 </a:t>
            </a:r>
            <a:r>
              <a:rPr b="0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ລ້າ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ctr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ວາມສ່ຽງຕໍ່ການເສຍຊີວິດຫຼາຍສຸດ ສຳລັບ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ctr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o-LA" sz="27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ັງແມ່ ແລະ ເດັກ ແມ່ນໄລຍະການເກີດລູກ ແລະ ທັນທີຫລັງຈາກເກີ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90720" y="20574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ຍິງ ອາຍຸໄວຈະເລີນພັນ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(15-49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ກີດລູກມີຊີວິດ ໃນໄລຍະ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2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 ກ່ອນການສຳພາ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21932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ົ້າໝາຍໃນການສຳພາ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8960" y="12949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ພື່ອເກັບລວບລວມຂໍ້ມູນດ້ານສຸຂະພາບຂອງແມ່ ແລະເດັກເກີດໃໝ່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625760"/>
            <a:ext cx="7619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66680" y="25909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ຸຂະພາບຂອງແມ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ຝາກທ້ອງ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ຸນລັກສະນະຂອງການເກີ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ຸຂະພາບຂອງເດັກເກີດໃໝ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ນ້ຳໜັກເດັກເວລາເກີ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ເລີ່ມລ້ຽງລູກດ້ວຍນົມແມ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ກັນ ພະຍາດບາດທະຍັ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	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າດເຫຼັກ ຊະນິດເມັດ</a:t>
            </a: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/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ນ້ຳເຊື່ອ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219320" y="3049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ຖຸປະສົ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2120" y="1625760"/>
            <a:ext cx="7619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762120" y="16765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ພາກນີ້ແມ່ນ ຈະໄດ້ຖາມ ແມ່ຍິງທຸກຄົນ ທີ່ໄດ້ເກີດລູກ ໃນໄລຍະ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2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 ກ່ອນການສຳພາ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ຳຖາມຂໍ້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1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4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ນັ້ນໃສ່ການຝາກທ້ອ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ນຂໍ້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2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ຈຳເປັນຕ້ອງຖາມເຈາະຈີ້ມ ສຳລັບປະເພດຂອງຜູ້ທີ່ລາວໄດ້ຝາກທ້ອງນຳ ແລະ ຖ້າແມ່ຍິງ ບອກຊື່ຂອງສະຖານບໍລິການສາທາລະນະສຸກ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ຖາມລາວວ່າ ແມ່ນໃຜແດ່ທີ່ລາວພົບຢູ່ສະຖານທີ່ນັ້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0666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 </a:t>
            </a:r>
            <a:r>
              <a:rPr b="1" lang="en-GB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ຝາກທ້ອງ</a:t>
            </a:r>
            <a:r>
              <a:rPr b="1" lang="en-GB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625760"/>
            <a:ext cx="7619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3520" y="137160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ເປັນພະຍາດບາດທະຍັກໃນເດັກອ່ອນ ຂ້າຊີວິດເດັກນ້ອຍຈຳນວນຫຼາຍຄົ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ພະຍາດດັ່ງກ່າວ ສາມາດປ້ອງກັນໄດ້ ຖ້າຜູ້ເປັນແມ່ ໄດ້ຮັບພູມຄຸ້ມກັນຕ້ານພະຍາດບາດທະຍັກ ຢ່າງພຽງພ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ກັນພະຍາດບາດທະຍັກ ປົກກະຕິແລ້ວແມ່ນເອົາໃຫ້ແມ່ຍິງ</a:t>
            </a:r>
            <a:r>
              <a:rPr b="0" lang="en-US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 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ີ່ຖືພາ ໂດຍການສັກໃສ່ກົກແຂ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ແມ່ຍິງຜູ້ໜຶ່ງ ໄດ້ຮັບຢ່າງໜ້ອຍ ການສັກຢາກັນພະຍາດບາດທະຍັກ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2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ຂັມ ໃນໄລຍະການຖືພາ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ືວ່າລາວໄດ້ຮັບພູມຄຸ້ມກັນເພື່ຶອປ້ອງກັນລູກຂອງລາວ ຕ້ານກັບພະຍາດບາດທະຍັກ</a:t>
            </a:r>
            <a:r>
              <a:rPr b="0" lang="en-US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  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ນເດັກອ່ອ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ໍ້ </a:t>
            </a:r>
            <a:r>
              <a:rPr b="0" lang="en-GB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6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Saysettha OT"/>
                <a:ea typeface="Saysettha OT"/>
              </a:rPr>
              <a:t> MN11 </a:t>
            </a:r>
            <a:r>
              <a:rPr b="0" lang="lo-LA" sz="25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ຫຼວດເພື່ອໃຫ້ໄດ້ຂໍ້ມູນກ່ຽວກັບການສັກຢາກັນພະຍາດບາດທະຍັ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907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3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ັກຢາກັນພະຍາດບາດທະຍັກ</a:t>
            </a:r>
            <a:r>
              <a:rPr b="1" lang="en-GB" sz="34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1625760"/>
            <a:ext cx="7619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66680" y="5335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GB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ເກີດລູກ</a:t>
            </a:r>
            <a:r>
              <a:rPr b="1" lang="en-GB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762120" y="17524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ຸກຄົນຜູ້ທີ່ໄດ້ຊ່ວຍເກີດ </a:t>
            </a:r>
            <a:r>
              <a:rPr b="0" lang="en-GB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ໍ້ </a:t>
            </a:r>
            <a:r>
              <a:rPr b="0" lang="en-GB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17)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ເລືອກໄດ້ຫຼາຍຂໍ້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ດັ່ງນັ້ນ ຈຳເປັນຕ້ອງຖາມເຈາະຈີ້ມ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ມີໃຜອີກຊ່ວຍເກີດ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ະຖານທີ່ເກີດລູກ </a:t>
            </a:r>
            <a:r>
              <a:rPr b="0" lang="en-GB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ໍ້ </a:t>
            </a:r>
            <a:r>
              <a:rPr b="0" lang="en-GB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18)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ເລືອກໄດ້ຂໍ້ດຽວ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.  </a:t>
            </a:r>
            <a:r>
              <a:rPr b="0" lang="en-US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  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ແມ່ຍິງຜູ້ນັ້ນເກີດລູກຢູ່ໂຮງໝໍໃດໜຶ່ງ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ຸກສາລາ ຫລື ກລີນິກ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ຖາມສະຖານທີ່ນັ້ນແມ່ນຂອງລັດ ຫລື ເອກກະຊົ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ບໍ່ສາມາດລະບຸໄດ້ວ່າແມ່ນລັດ ຫລື ເອກກະຊົນ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ຂຽນ ຊື່ຂອງສະຖານທີ່ດັ່ງກ່າວໃສ່ບ່ອນຫວ່າງທີ່ກຳນົດໄວ້ໃຫ້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2120" y="1625760"/>
            <a:ext cx="7619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0492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99072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ເດັກເວລາເກີດ</a:t>
            </a:r>
            <a:r>
              <a:rPr b="1" lang="en-GB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14479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ອີງຕາມຂໍ້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20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ອ່ານຄຳຖາມທັງໝົດຢ່າງຊັດເຈນ ດັ່ງມີຢູ່ໃນຟອມ ກ່ອນບັນທຶກຄຳຕອບຄຳຕອບ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ນີແມ່ນຄວາມຄິດເຫັນຂອງແມ່ຍິງຜູ້ນັ້ນ</a:t>
            </a:r>
            <a:r>
              <a:rPr b="0" lang="lo-LA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ໍ່ກັບຂະໜາດລູກຂອງລາ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 ຜູ້ຕອບສຳພາດ ບໍ່ສາມາດບອກທ່ານ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ໍ່ໃຫ້ພະຍາຍາມເດົາຄຳຕອບ ໂດຍອີງໃສ່ ຂໍ້ມູນນ້ຳໜັກເດັກເວລາເກີດ ຫລື ຮູບຮ່າງຂອງເດັກ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;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ຂີດວົງອ້ອມ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8’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ລັບ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“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ໍ່ຮູ້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ລັບຂໍ້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MN22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ບໍ່ມີບັດ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ຜູ້ເປັນແມ່ບໍ່ສາມາດຈື່ ນ້ຳໜັກທີ່ແທ້ຈິງ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ບັນທຶກຄຳຕອບທີ່ລາວຄາດຄະເ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451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4343400" y="3429000"/>
            <a:ext cx="4724280" cy="3576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ຳອິດ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ໍ້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WM1 – WM4) </a:t>
            </a: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້ອງໄດ້ບັນທຶກໃສ່ທັນທີຫລັງຈາກສຳເລັດພາກບັນຊີຄົວເຮືອ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ສົມທົບຂອງລະຫັດເຂດສຳຫຼວດ</a:t>
            </a:r>
            <a:r>
              <a:rPr b="0" lang="lo-LA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ລກທີ່ຄົວເຮືອນແລະເລກທີ່ບຸກຄົນໄດ້ປະກອບເຂົ້າກັນເປັນຫົວໜ່ວຍອັນດຽວກັນຂອງແມ່ຍິງໃນການສຳຫຼວ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762120" y="1523880"/>
          <a:ext cx="8381880" cy="2819520"/>
        </p:xfrm>
        <a:graphic>
          <a:graphicData uri="http://schemas.openxmlformats.org/drawingml/2006/table">
            <a:tbl>
              <a:tblPr/>
              <a:tblGrid>
                <a:gridCol w="2438280"/>
                <a:gridCol w="838080"/>
                <a:gridCol w="762120"/>
                <a:gridCol w="914400"/>
                <a:gridCol w="838080"/>
                <a:gridCol w="1067040"/>
                <a:gridCol w="761760"/>
                <a:gridCol w="7621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ເຂ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ບໍ່ຝາກ ທ້ອ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ດ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ພ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ພດ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ພ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/</a:t>
                      </a: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ງ ແພ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ໝໍຕຳ ແ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ອື່ນ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ຕົວເມືອ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2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4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2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ຊົນນະບົດ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7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1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ຊົນນະບົດບໍ່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9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Saysettha OT"/>
                          <a:ea typeface="Saysettha OT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c00000"/>
                          </a:solidFill>
                          <a:latin typeface="Saysettha OT"/>
                          <a:cs typeface="Saysettha OT"/>
                        </a:rPr>
                        <a:t>ທັງໝົ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7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bbb59"/>
                          </a:solidFill>
                          <a:latin typeface="Saysettha OT"/>
                          <a:ea typeface="Saysettha OT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3"/>
          <p:cNvSpPr/>
          <p:nvPr/>
        </p:nvSpPr>
        <p:spPr>
          <a:xfrm>
            <a:off x="1295280" y="5335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ຝາກທ້ອງ ແບ່ງຕາມປະເພດຜູ້ຊ່ວຍເກີ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990720" y="47242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ຫຼ່ງ</a:t>
            </a:r>
            <a:r>
              <a:rPr b="1" i="1" lang="lo-LA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: </a:t>
            </a:r>
            <a:r>
              <a:rPr b="1" i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ສຳຫຼວດ ສຸຂະພາບຈະເລີນ ໃນ ສປປ ລາວ </a:t>
            </a:r>
            <a:r>
              <a:rPr b="1" i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1523880" y="39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ະຖານທີເກີດລູ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066680" y="60958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o-LA" sz="1600" spc="-1" strike="noStrike">
                <a:solidFill>
                  <a:srgbClr val="376092"/>
                </a:solidFill>
                <a:latin typeface="Saysettha OT"/>
                <a:cs typeface="Saysettha OT"/>
              </a:rPr>
              <a:t>ແຫຼ່ງ</a:t>
            </a:r>
            <a:r>
              <a:rPr b="1" i="1" lang="lo-LA" sz="1600" spc="-1" strike="noStrike">
                <a:solidFill>
                  <a:srgbClr val="376092"/>
                </a:solidFill>
                <a:latin typeface="Saysettha OT"/>
                <a:ea typeface="Saysettha OT"/>
              </a:rPr>
              <a:t>:</a:t>
            </a:r>
            <a:r>
              <a:rPr b="1" i="1" lang="en-US" sz="1600" spc="-1" strike="noStrike">
                <a:solidFill>
                  <a:srgbClr val="376092"/>
                </a:solidFill>
                <a:latin typeface="Saysettha OT"/>
                <a:ea typeface="Saysettha OT"/>
              </a:rPr>
              <a:t> </a:t>
            </a:r>
            <a:r>
              <a:rPr b="1" i="1" lang="lo-LA" sz="1600" spc="-1" strike="noStrike">
                <a:solidFill>
                  <a:srgbClr val="376092"/>
                </a:solidFill>
                <a:latin typeface="Saysettha OT"/>
                <a:cs typeface="Saysettha OT"/>
              </a:rPr>
              <a:t>ການສຳຫຼວດ ສຸຂະພາບຈະເລີນ ໃນ ສປປ ລາວ </a:t>
            </a:r>
            <a:r>
              <a:rPr b="1" i="1" lang="en-US" sz="1600" spc="-1" strike="noStrike">
                <a:solidFill>
                  <a:srgbClr val="376092"/>
                </a:solidFill>
                <a:latin typeface="Saysettha OT"/>
                <a:ea typeface="Saysettha OT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Chart 5"/>
          <p:cNvGraphicFramePr/>
          <p:nvPr/>
        </p:nvGraphicFramePr>
        <p:xfrm>
          <a:off x="1496880" y="993600"/>
          <a:ext cx="7158240" cy="502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993600"/>
                    <a:ext cx="71582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143000" y="8380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ລະອຽດ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ິທີການຈົດກ່າຍໃສ່ແບບສອບຖາ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ight Arrow 5"/>
          <p:cNvSpPr/>
          <p:nvPr/>
        </p:nvSpPr>
        <p:spPr>
          <a:xfrm>
            <a:off x="2438280" y="2819520"/>
            <a:ext cx="2667240" cy="17524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ການສຳຫລວດດັດສະນີໝາຍສັງຄົມລາວ </a:t>
            </a:r>
            <a:r>
              <a:rPr b="0" lang="en-US" sz="3600" spc="-1" strike="noStrike">
                <a:solidFill>
                  <a:srgbClr val="00b050"/>
                </a:solidFill>
                <a:latin typeface="Saysettha Unicode"/>
                <a:ea typeface="Saysettha Unicode"/>
              </a:rPr>
              <a:t>(LSIS)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ການອົບຮົມນັກເດີນສຳຫລວ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ກວດສຸຂະພາບຫລັງເກີ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4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ໄດ້ຮັບກວດສຸຂະພາບທັນທີີຫລັງການອອກລູກເປັນສິ່ງສຳຄັນສຳລັບສຸຂະພາບຂອງແມ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ພື່ອສຶກສາເບິ່ງວ່າມີຜູ້ຕອບຄຳຖາມຜູ້ໃດແດ່ໄດ້ກວດສຸຂະພາບຫລັງເກີດ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ໄດ້ກວດ</a:t>
            </a:r>
            <a:r>
              <a:rPr b="1" lang="en-GB" sz="2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ຫລັງເກີດຈັກມື້ ຫລື ຈັກອາທິດສຳລັບການກວດຄັ້ງທຳອິ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ມ່ນໃຜເປັນຜູ້ກວດຫລັງເກີດໃຫ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ວດຫລັງເກີດຢູ່ສະຖານທີ່ໃ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000" y="-22896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ຈຸດ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ທັງໝົດ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23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ຄຳຖາມ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ຕ່ວ່າມີຫລາຍຄຳຖາມທີ່ຕ້ອງໄດ້   ໝາຍຕິກ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(</a:t>
            </a:r>
            <a:r>
              <a:rPr b="1" lang="en-GB" sz="2800" spc="-1" strike="noStrike">
                <a:solidFill>
                  <a:srgbClr val="002060"/>
                </a:solidFill>
                <a:latin typeface="Wingdings"/>
                <a:ea typeface="Wingdings"/>
              </a:rPr>
              <a:t>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)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ລ້ວ ຂ້າມໄປ ຕາມຄຳແນະນ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ຈຳເປັນຕ້ອງໄດ້ປະຕິບັດຢ່າງເຄັ່ງຄັດຕາມຄຳແນະນ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ຄຳຖາມເບິ່ງຄ້າຍຄືກັນ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ະນັ້ນຈະຕ້ອງໄດ້ເອົາໃຈ່ໃສເວລາຖາມຄຳຖາ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76320"/>
            <a:ext cx="30481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ຄຳແນະນ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3080" y="4343400"/>
          <a:ext cx="8970840" cy="24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4343400"/>
                    <a:ext cx="89708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ຄຳແນະນຳ </a:t>
            </a:r>
            <a:r>
              <a:rPr b="0" lang="en-GB" sz="4400" spc="-1" strike="noStrike">
                <a:solidFill>
                  <a:srgbClr val="00b050"/>
                </a:solidFill>
                <a:latin typeface="Saysettha Unicode"/>
                <a:ea typeface="Saysettha Unicode"/>
              </a:rPr>
              <a:t>(</a:t>
            </a:r>
            <a:r>
              <a:rPr b="0" lang="en-GB" sz="44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ຕໍ່</a:t>
            </a:r>
            <a:r>
              <a:rPr b="0" lang="en-GB" sz="4400" spc="-1" strike="noStrike">
                <a:solidFill>
                  <a:srgbClr val="00b050"/>
                </a:solidFill>
                <a:latin typeface="Saysettha Unicode"/>
                <a:ea typeface="Saysettha Unicode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57200" y="228600"/>
            <a:ext cx="8686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ໂດຍທົ່ວໄປຄຳຖາມແມ່ນເລັ່ງໃສ່ການກວດສຸຂະພາບແມ່ຫລັ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ອອກລູກຢູ່ສະຖານບໍລິການສຸຂະພາບຫລືບໍ່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ໂຄງສ້າງແບບສອບຖາມໂດຍທົ່ວໄປມີດັ່ງນີ້</a:t>
            </a:r>
            <a:r>
              <a:rPr b="1" lang="en-US" sz="20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4267080" y="2057400"/>
            <a:ext cx="4419720" cy="4114800"/>
            <a:chOff x="4267080" y="2057400"/>
            <a:chExt cx="4419720" cy="4114800"/>
          </a:xfrm>
        </p:grpSpPr>
        <p:grpSp>
          <p:nvGrpSpPr>
            <p:cNvPr id="232" name="Group 5"/>
            <p:cNvGrpSpPr/>
            <p:nvPr/>
          </p:nvGrpSpPr>
          <p:grpSpPr>
            <a:xfrm>
              <a:off x="4267080" y="2057400"/>
              <a:ext cx="4084920" cy="4114800"/>
              <a:chOff x="4267080" y="2057400"/>
              <a:chExt cx="4084920" cy="4114800"/>
            </a:xfrm>
          </p:grpSpPr>
          <p:sp>
            <p:nvSpPr>
              <p:cNvPr id="233" name="TextBox 1"/>
              <p:cNvSpPr/>
              <p:nvPr/>
            </p:nvSpPr>
            <p:spPr>
              <a:xfrm>
                <a:off x="4959000" y="2057400"/>
                <a:ext cx="1914480" cy="69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ຜູ້ທີ່ໄປເກີດລູກຢູ່ສະຖານທີ່ບໍລິການ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Straight Connector 11"/>
              <p:cNvSpPr/>
              <p:nvPr/>
            </p:nvSpPr>
            <p:spPr>
              <a:xfrm>
                <a:off x="5904720" y="2755800"/>
                <a:ext cx="6120" cy="45216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TextBox 4"/>
              <p:cNvSpPr/>
              <p:nvPr/>
            </p:nvSpPr>
            <p:spPr>
              <a:xfrm>
                <a:off x="4267080" y="3400200"/>
                <a:ext cx="671400" cy="39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ແມ່ນ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TextBox 5"/>
              <p:cNvSpPr/>
              <p:nvPr/>
            </p:nvSpPr>
            <p:spPr>
              <a:xfrm>
                <a:off x="6915240" y="3411360"/>
                <a:ext cx="857160" cy="396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ບໍ່ແມ່ນ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Straight Connector 14"/>
              <p:cNvSpPr/>
              <p:nvPr/>
            </p:nvSpPr>
            <p:spPr>
              <a:xfrm>
                <a:off x="4576680" y="3197160"/>
                <a:ext cx="2668680" cy="1080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Straight Connector 15"/>
              <p:cNvSpPr/>
              <p:nvPr/>
            </p:nvSpPr>
            <p:spPr>
              <a:xfrm>
                <a:off x="4596480" y="3197160"/>
                <a:ext cx="6120" cy="20304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Straight Connector 16"/>
              <p:cNvSpPr/>
              <p:nvPr/>
            </p:nvSpPr>
            <p:spPr>
              <a:xfrm>
                <a:off x="7224120" y="3186000"/>
                <a:ext cx="14040" cy="16668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Straight Connector 17"/>
              <p:cNvSpPr/>
              <p:nvPr/>
            </p:nvSpPr>
            <p:spPr>
              <a:xfrm flipH="1">
                <a:off x="7213680" y="3819600"/>
                <a:ext cx="2880" cy="33336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TextBox 19"/>
              <p:cNvSpPr/>
              <p:nvPr/>
            </p:nvSpPr>
            <p:spPr>
              <a:xfrm>
                <a:off x="6076800" y="4114800"/>
                <a:ext cx="2275200" cy="1101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ນຳຜູ້ມີອາຊີບທາງດ້ານການແພດ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ຫລື ພະນັກງານແພດ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Straight Connector 19"/>
              <p:cNvSpPr/>
              <p:nvPr/>
            </p:nvSpPr>
            <p:spPr>
              <a:xfrm>
                <a:off x="7213680" y="5216760"/>
                <a:ext cx="10800" cy="34272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Straight Connector 20"/>
              <p:cNvSpPr/>
              <p:nvPr/>
            </p:nvSpPr>
            <p:spPr>
              <a:xfrm flipV="1">
                <a:off x="6118200" y="5550120"/>
                <a:ext cx="2160720" cy="936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Straight Connector 21"/>
              <p:cNvSpPr/>
              <p:nvPr/>
            </p:nvSpPr>
            <p:spPr>
              <a:xfrm>
                <a:off x="6117480" y="5570640"/>
                <a:ext cx="4680" cy="20448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Straight Connector 22"/>
              <p:cNvSpPr/>
              <p:nvPr/>
            </p:nvSpPr>
            <p:spPr>
              <a:xfrm>
                <a:off x="8268840" y="5550120"/>
                <a:ext cx="4680" cy="203040"/>
              </a:xfrm>
              <a:prstGeom prst="line">
                <a:avLst/>
              </a:prstGeom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TextBox 36"/>
              <p:cNvSpPr/>
              <p:nvPr/>
            </p:nvSpPr>
            <p:spPr>
              <a:xfrm>
                <a:off x="5797440" y="5775480"/>
                <a:ext cx="671400" cy="396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ແມ່ນ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TextBox 37"/>
            <p:cNvSpPr/>
            <p:nvPr/>
          </p:nvSpPr>
          <p:spPr>
            <a:xfrm>
              <a:off x="7848720" y="5753160"/>
              <a:ext cx="838080" cy="39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aysettha Unicode"/>
                  <a:cs typeface="Saysettha Unicode"/>
                </a:rPr>
                <a:t>ບໍ່ແມ່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4560" y="56383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aysettha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ະນັ້ນ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ບິ່ງຄືມີຫລາຍຄຳຖາມ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ຕ່ໃນຕົວຈິງ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ທ່ານປະຕິບັດຕາມຄຳແນະນຳ ການຂ້າມຄຳຖາມຢ່າງຖືກຕ້ອງ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ມັນເປັນຄຳຖາມທີ່ສາມາດຄຸ້ມຄອງໄດ້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Object 20"/>
          <p:cNvGraphicFramePr/>
          <p:nvPr/>
        </p:nvGraphicFramePr>
        <p:xfrm>
          <a:off x="301680" y="73080"/>
          <a:ext cx="86500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73080"/>
                    <a:ext cx="86500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5"/>
          <p:cNvSpPr/>
          <p:nvPr/>
        </p:nvSpPr>
        <p:spPr>
          <a:xfrm>
            <a:off x="1143000" y="1523880"/>
            <a:ext cx="6477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ລາຍລະອຽ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ແລ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ການບັນທຶກໃສ່ແບບສອບຖາ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Wingdings"/>
                <a:ea typeface="Wingdings"/>
                <a:hlinkClick r:id="rId1"/>
              </a:rPr>
              <a:t>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Wingdings"/>
                <a:ea typeface="Wingdings"/>
                <a:hlinkClick r:id="rId2"/>
              </a:rPr>
              <a:t>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61048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4000" spc="-1" strike="noStrike">
                <a:solidFill>
                  <a:srgbClr val="0099ff"/>
                </a:solidFill>
                <a:latin typeface="Calibri"/>
              </a:rPr>
              <a:t>(LSIS) </a:t>
            </a:r>
            <a:br>
              <a:rPr sz="4000"/>
            </a:br>
            <a:r>
              <a:rPr b="1" lang="lo-LA" sz="40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</a:t>
            </a:r>
            <a:r>
              <a:rPr b="1" lang="en-US" sz="40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ອົບຮົມນັກເດີນສຳຫຼວ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ແບບສອບຖາມສຳຫລັບແມ່ຍິງ</a:t>
            </a:r>
            <a:r>
              <a:rPr b="1" lang="en-US" sz="4400" spc="-1" strike="noStrike">
                <a:solidFill>
                  <a:srgbClr val="0099ff"/>
                </a:solidFill>
                <a:latin typeface="Saysettha OT"/>
                <a:ea typeface="Saysettha O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າກການຄຸມກຳເນ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4267080" y="2209680"/>
            <a:ext cx="4572000" cy="1557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ຈຳເປັນຕ້ອງໄດ້ອ່ານຄຳທັກທາຍຄືນຕໍ່ແມ່ຍິງຜູ້ນີ້ ຖ້າຍັງບໍ່ທັນໄດ້ອ່ານ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 – </a:t>
            </a:r>
            <a:r>
              <a:rPr b="0" lang="lo-LA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ບີ່ງວ່າແມ່ຍິງຜູ້ນີ້ອາດເປັນຜູ້ຕອບແບບສອບຖາມຄົວເຮືອ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46080"/>
            <a:ext cx="5639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ປະຫວັດຄວາມເປັນມ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Saysettha OT"/>
                <a:ea typeface="Saysettha OT"/>
              </a:rPr>
              <a:t>MDG5, </a:t>
            </a:r>
            <a:r>
              <a:rPr b="1" lang="en-US" sz="28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ເປົ້າໝາຍຕົວຊີ້ວັດ </a:t>
            </a:r>
            <a:r>
              <a:rPr b="1" lang="en-US" sz="2800" spc="-1" strike="noStrike">
                <a:solidFill>
                  <a:srgbClr val="0099ff"/>
                </a:solidFill>
                <a:latin typeface="Saysettha OT"/>
                <a:ea typeface="Saysettha OT"/>
              </a:rPr>
              <a:t>B (MDG # 5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ສຶກສາຄົ້ນຄວ້າໄດ້ຊີ້ໃຫ້ເຫັນວ່າການຖືພາທີ່ບໍ່ເພີ່ງປາຖະໜາພາໃຫ້ມີຄວາມສ່ຽງຢ່າງໃຫ່ຽຫຼວ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Saysettha OT"/>
                <a:ea typeface="Saysettha OT"/>
              </a:rPr>
              <a:t>% </a:t>
            </a:r>
            <a:r>
              <a:rPr b="1" lang="en-US" sz="28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ນຳໃຊ້ວິທີການຄຸມກຳເນີດຂອງແມ່ຍິງທີ່ເຄີຍແຕ່ງງານແລ້ວແລະແຕ່ງງານໃນປະຈຸບັນ ແບ່ງຕາມອາຍຸ</a:t>
            </a:r>
            <a:r>
              <a:rPr b="1" lang="en-US" sz="2800" spc="-1" strike="noStrike">
                <a:solidFill>
                  <a:srgbClr val="0099ff"/>
                </a:solidFill>
                <a:latin typeface="Saysettha OT"/>
                <a:ea typeface="Saysettha OT"/>
              </a:rPr>
              <a:t>(LRHS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19320" y="4253040"/>
          <a:ext cx="2971800" cy="24526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</a:tblGrid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ອາຍ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 -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 -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 - 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 - 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05520" y="4253040"/>
          <a:ext cx="2971800" cy="24526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</a:tblGrid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ອາຍ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 - 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0 –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5 –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Oval 7"/>
          <p:cNvSpPr/>
          <p:nvPr/>
        </p:nvSpPr>
        <p:spPr>
          <a:xfrm>
            <a:off x="6858000" y="6095880"/>
            <a:ext cx="838080" cy="5335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ວັດຖຸ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ລວບລວມຂໍ້ມູນທີ່ກ່ຽວຂ້ອງກັບຄວາມຮູ້ ແລະ ການ ນຳໃຊ້ວິທີຄຸມກຳເນີດໃນຮູບແບບຕ່າງໆ ຊື່ງຄູ່ຜົວເມຍສາມາດນຳໃຊ້ເພື່ອຫຼີກລ້ຽງການຖືພາ ຫຼື  ປ້ອງກັນການຖືພ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ັນລະນາ</a:t>
            </a:r>
            <a:r>
              <a:rPr b="1" lang="lo-LA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ເຖິງ</a:t>
            </a: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ວິທີການຄຸມກຳເນ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ເ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ຮັດ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ໝັນຍິ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´ó-¹ì¾¨-¯½-À²©-Ã­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À»ñ©-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¨ò¤ -Á´È¨ò¤-¦¾´¾©-Àìõº¡-ê†-¥½-À»ñ©--Ã­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¡¾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-À»ñ©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¢º¤-ì¾¸, ì¸´-´ó  “-´ñ©-êÒ” ¹ìõ ¨ö¡-´ö©-ìø¡ (ªö¸µÈ¾¤ °È¾ªñ©-</a:t>
            </a:r>
            <a:r>
              <a:rPr b="1" lang="en-US" sz="2400" spc="-1" strike="noStrike">
                <a:solidFill>
                  <a:srgbClr val="0070c0"/>
                </a:solidFill>
                <a:latin typeface="Saysettha Lao"/>
              </a:rPr>
              <a:t>Àºö¾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´ö©-ìø¡ºº¡) ¹ìõ »„¤-Ä¢È. ²¼¤ÁªÈ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©¿-À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ó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°È¾ªñ©À²ˆºÀ»ñ©Ã¹ÉÉ-Á´È¨ò¤-®Ò¦¾´¾©´óìø¡Ä©Éºó¡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˜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 êÈ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£¸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®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êô¡£õ¡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¡ñ®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À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Saysettha Lao"/>
              </a:rPr>
              <a:t>¡¾­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800" spc="-1" strike="noStrike">
                <a:solidFill>
                  <a:srgbClr val="0070c0"/>
                </a:solidFill>
                <a:latin typeface="Saysettha Lao"/>
              </a:rPr>
              <a:t>À»ñ©Ïñ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800" spc="-1" strike="noStrike">
                <a:solidFill>
                  <a:srgbClr val="0070c0"/>
                </a:solidFill>
                <a:latin typeface="Saysettha Lao"/>
              </a:rPr>
              <a:t>­§¾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-¡¾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À»ñ©-</a:t>
            </a:r>
            <a:r>
              <a:rPr b="1" lang="en-US" sz="2400" spc="-1" strike="noStrike">
                <a:solidFill>
                  <a:srgbClr val="0070c0"/>
                </a:solidFill>
                <a:latin typeface="Saysettha Lao"/>
              </a:rPr>
              <a:t>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§¾¨-Á´È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´ó-ÎÉº¨-À´ˆº-¯¼®ê¼®-Ã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°øÉ-§¾¨-ê†-À»ñ©-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À²ˆº£÷´-¡¿-À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ó-©.- ´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ສາມາດ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À¸í¾Ä©ÉÀ§„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©¼¸¡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¸È¾Á´È­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À»ñ©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ັນລະນາ</a:t>
            </a:r>
            <a:r>
              <a:rPr b="1" lang="lo-LA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ເຖີງ</a:t>
            </a: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ວິທີການຄຸມກຳເນ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Saysettha La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Saysettha Lao"/>
              </a:rPr>
              <a:t>Ã¦È-»È¸¤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(IU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¡¾­-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Ã¦È-»È¸¤ -Á´È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¸òêó-Îˆ¤-À²ˆ</a:t>
            </a:r>
            <a:r>
              <a:rPr b="1" lang="pt-BR" sz="2800" spc="-1" strike="noStrike" u="sng">
                <a:solidFill>
                  <a:srgbClr val="0070c0"/>
                </a:solidFill>
                <a:uFillTx/>
                <a:latin typeface="Saysettha Lao"/>
              </a:rPr>
              <a:t>º-£¸®£÷´-¡¾</a:t>
            </a:r>
            <a:r>
              <a:rPr b="1" lang="lo-LA" sz="2800" spc="-1" strike="noStrike" u="sng">
                <a:solidFill>
                  <a:srgbClr val="0070c0"/>
                </a:solidFill>
                <a:uFillTx/>
                <a:latin typeface="Saysettha Lao"/>
                <a:cs typeface="DokChampa"/>
              </a:rPr>
              <a:t>ນ</a:t>
            </a:r>
            <a:r>
              <a:rPr b="1" lang="pt-BR" sz="2800" spc="-1" strike="noStrike" u="sng">
                <a:solidFill>
                  <a:srgbClr val="0070c0"/>
                </a:solidFill>
                <a:uFillTx/>
                <a:latin typeface="Saysettha Lao"/>
              </a:rPr>
              <a:t>­-´ó-ìø¡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; 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 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´ñ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Á´È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¡¾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Ã¦È-»È¸¤-À¢í¾Ã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´ö©-ìø¡-¢º¤-Á´È¨ò¤ ---À²ˆº-¯Éº¤-¡ñ­-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¡¾­-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«õ²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Saysettha Lao"/>
              </a:rPr>
              <a:t>¡¾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3200" spc="-1" strike="noStrike">
                <a:solidFill>
                  <a:srgbClr val="0070c0"/>
                </a:solidFill>
                <a:latin typeface="Saysettha Lao"/>
              </a:rPr>
              <a:t>­-¦ñ¡-µ¾£÷´-¡¿-À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3200" spc="-1" strike="noStrike">
                <a:solidFill>
                  <a:srgbClr val="0070c0"/>
                </a:solidFill>
                <a:latin typeface="Saysettha Lao"/>
              </a:rPr>
              <a:t>­ó-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	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Œ ¡¾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¦ñ¡ --»ð-Â´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 À¢í¾-Ã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¡½-Á¦-Àìõ-º©µÈ¾¤-§É¾Å Áì½ 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    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¦ñ¡µ¾-µÈ¾¤-ªÒ-À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ˆº¤Ã¹ÉÁ´È¨ò¤ -À²ˆº-¯Éº¤-¡ñ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¡¾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­-«õ-²¾-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ັນລະນາ</a:t>
            </a:r>
            <a:r>
              <a:rPr b="1" lang="lo-LA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ເຖີງ</a:t>
            </a: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ວິທີການຄຸມກຳເນ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±ñ¤-À¢ñ´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(</a:t>
            </a:r>
            <a:r>
              <a:rPr b="1" lang="en-GB" sz="2800" spc="-1" strike="noStrike">
                <a:solidFill>
                  <a:srgbClr val="0070c0"/>
                </a:solidFill>
                <a:latin typeface="Saysettha Lao"/>
              </a:rPr>
              <a:t>IMPLANTS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±ñ¤-À¢ñ´-£÷´-¡¿-À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ó-©, -¢½Î¾©-¢º¤-À¢ñ´-Á´È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´ó-¢½Î¾©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Éº¨ -- ¥½-±ñ¤-À¢í¾-Ã¦È-Ã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¡ö¡-Á¢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¢º¤-Á´-È¨ò¤. Â©¨-¯ö¡¡½ªò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¦¾´¾©¯Éº¤¡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Á´È¨ò¤-«õ²¾-Ä©É-À«ò¤ 5 ¯ó ¹ìõ ¹ì¾¨-¡¸È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˜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«ö¤-µ¾¤-º¾­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¾-Ä´-Á´È¨ò¤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lo-LA" sz="2800" spc="-1" strike="noStrike">
                <a:solidFill>
                  <a:srgbClr val="0070c0"/>
                </a:solidFill>
                <a:latin typeface="Calibri"/>
                <a:ea typeface="DokChampa"/>
              </a:rPr>
              <a:t>(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FEMALE CONDOM</a:t>
            </a:r>
            <a:r>
              <a:rPr b="1" lang="lo-LA" sz="2800" spc="-1" strike="noStrike">
                <a:solidFill>
                  <a:srgbClr val="0070c0"/>
                </a:solidFill>
                <a:latin typeface="Calibri"/>
                <a:ea typeface="DokChamp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«ö¤-µ¾¤-Á´È­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Á°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®¾¤Ã¦ê†-¦¾-´¾©-Ã¦ÈÃ­-§Èº¤-£º©-¡Èº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-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»È¸´-À²©À²ˆº-Íó¡-ìû¼¤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«õ²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«ö¤-µ¾¤-º¾­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800" spc="-1" strike="noStrike">
                <a:solidFill>
                  <a:srgbClr val="0070c0"/>
                </a:solidFill>
                <a:latin typeface="Saysettha Lao"/>
              </a:rPr>
              <a:t>¾-Ä´§¾¨</a:t>
            </a:r>
            <a:r>
              <a:rPr b="1" lang="lo-LA" sz="28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Saysettha Lao"/>
              </a:rPr>
              <a:t>(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COND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Â©¨°È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¦¿Í¸©, ´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Ï¾¨À«ò¤«ö¤µ¾¤º½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¾Ä´§¾¨ «ö¤µ¾¤Á´È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Á°È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®¾¤Ã¦ê†¦¾´¾©¦÷®Ã¦Èº½Ä¸¨½¸½À²©§¾¨ ¡Èº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»È¸´À²©À²ˆºÍó¡ìÉ¼¤¥¾¡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70c0"/>
                </a:solidFill>
                <a:latin typeface="Saysettha Lao"/>
              </a:rPr>
              <a:t>­«õ²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ພັນລະນາຂອງວິທີການຄຸມກຳເນ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70c0"/>
                </a:solidFill>
                <a:latin typeface="Saysettha Lao"/>
              </a:rPr>
              <a:t>¢½-ì¿-®¾¤-Äì¨½-À¸ì¾ (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RHYTHM METHO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¡¾­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¢½-ì¿-®¾¤-Äì¨½-À¸ì¾-Àºš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¸È¾-Á´È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§È¸¤-Äì¨½-ê†-¯º©-Ä²-Ã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»È¸´-À²©, 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À¸ñû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¸ñ¡- ¹ìõ £ò©-ÄìÈ-ª¾´-¯½ªòêò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, 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šÁ´È­-¸òêó-²œ­«¾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¢º¤-¹ìñ¡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ê†-¸È¾-®Ò-£¸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´ó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À²©-¦¿²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¡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Ã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§È¸¤-Äì¨½-À¸ì¾--ê†-Ä©É-¢½ì¿ ¡Èº­-ê†-ì¾¸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¥½-À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¯½¥¿-À©õº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, -´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¦¾´¾©-¯Éº¤-¡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«õ²¾-Ä©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Saysettha La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70c0"/>
                </a:solidFill>
                <a:latin typeface="Saysettha Lao"/>
              </a:rPr>
              <a:t>ì„¤­</a:t>
            </a:r>
            <a:r>
              <a:rPr b="1" lang="lo-LA" sz="22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200" spc="-1" strike="noStrike">
                <a:solidFill>
                  <a:srgbClr val="0070c0"/>
                </a:solidFill>
                <a:latin typeface="Saysettha Lao"/>
              </a:rPr>
              <a:t>Õ¡¾´-ºº¡-</a:t>
            </a:r>
            <a:r>
              <a:rPr b="1" lang="lo-LA" sz="22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200" spc="-1" strike="noStrike">
                <a:solidFill>
                  <a:srgbClr val="0070c0"/>
                </a:solidFill>
                <a:latin typeface="Saysettha Lao"/>
              </a:rPr>
              <a:t>­º¡ (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WITHDRAWAL METHO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´ñ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Á´È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´ó-¸òêó-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¯Éº¤-¡ñ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¡¾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-«õ²¾Îˆ¤ê†À¯ñ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­Ä¯Ä©É. Â©¨¯ö¡¡½ªòÁìû¸°øÉ-§¾¨-¥½-ªÉº¤-Ä©É-ì½´ñ©ì½¸ñ¤- Áì½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ea typeface="DokChampa"/>
              </a:rPr>
              <a:t> 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«º© º½Ä¸¨½¸½À²©-ºº¡-¢É¾¤-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º¡-¡Èº­-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ê†¥½ì„¤­</a:t>
            </a:r>
            <a:r>
              <a:rPr b="1" lang="lo-LA" sz="2400" spc="-1" strike="noStrike">
                <a:solidFill>
                  <a:srgbClr val="0070c0"/>
                </a:solidFill>
                <a:latin typeface="Saysettha Lao"/>
                <a:cs typeface="DokChampa"/>
              </a:rPr>
              <a:t>ນ</a:t>
            </a:r>
            <a:r>
              <a:rPr b="1" lang="pt-BR" sz="2400" spc="-1" strike="noStrike">
                <a:solidFill>
                  <a:srgbClr val="0070c0"/>
                </a:solidFill>
                <a:latin typeface="Saysettha Lao"/>
              </a:rPr>
              <a:t>Õ¡¾´ºº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126720"/>
            <a:ext cx="68580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ຈຸດທີ່</a:t>
            </a: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ຄວນ</a:t>
            </a:r>
            <a:r>
              <a:rPr b="1" lang="lo-LA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ເອົາໃຈໃສ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າມ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ມ່ຍິງ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Saysettha OT"/>
                <a:cs typeface="Saysettha OT"/>
              </a:rPr>
              <a:t>ທຸກຄົນ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ທີ່ມີອາຍຸ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15-49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ປີ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ລວມ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ອົາທຸກວິທີການຄຸມກຳເນີດທີ່ໃຊ້</a:t>
            </a:r>
            <a:r>
              <a:rPr b="1" lang="lo-LA" sz="2600" spc="-1" strike="noStrike" u="sng">
                <a:solidFill>
                  <a:srgbClr val="0070c0"/>
                </a:solidFill>
                <a:uFillTx/>
                <a:latin typeface="Saysettha OT"/>
                <a:cs typeface="Saysettha OT"/>
              </a:rPr>
              <a:t>ໃນປະຈຸບັນ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:         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ວິທີທີ່ທັນສະໄໝແລະວິທີພື້ນເມືອ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ບໍ່ລວມເອົາການລຸລູ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ນັກເດີນສຳຫຼວດຕ້ອງຄ່ອງແຄ້ວຕໍ່ບັນດາຄຳຖາມເຫຼົ່ານີ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ຜູ້ຕອບຫາກເວົ້າເຖິງຫຼາຍກວ່າໜື່ງວິທີ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ຂໍ້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CP3),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   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ຫ້ປະຕິບັດຕາມຄຳແນະນຳໃຫ້ຂ້າມໄປສຳລັບວິທີທີ່ປາກົດ     ຢູ່ກ່ອນໃນບັນຊີ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ຊັ່ນຕົວຢ່າງ ຖ້າຂີດອ້ອມເອົາຄຳຕອບ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D, L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M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ຢູ່ໃນຂໍ້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CP3,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ພຽງແຕ່ເຮັດຕາມຄຳແນະນຳໃຫ້ຂ້າມໄປຂອງຄຳຕອບ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D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ຊື່ງໃຫ້ສືບຕໍ່ຂໍ້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CP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839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ລະອຽດ ແລະວິທີການຈົດກ່າຍ        ໃສ່ແບບສອບຖາ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hevron 5"/>
          <p:cNvSpPr/>
          <p:nvPr/>
        </p:nvSpPr>
        <p:spPr>
          <a:xfrm>
            <a:off x="3581280" y="2895480"/>
            <a:ext cx="1447920" cy="12956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937" y="0"/>
                </a:lnTo>
                <a:lnTo>
                  <a:pt x="21600" y="10800"/>
                </a:lnTo>
                <a:lnTo>
                  <a:pt x="11937" y="21600"/>
                </a:lnTo>
                <a:lnTo>
                  <a:pt x="0" y="21600"/>
                </a:lnTo>
                <a:lnTo>
                  <a:pt x="9663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ການສຳຫລວດດັດສະນີໝາຍສັງຄົມລາວ </a:t>
            </a:r>
            <a:r>
              <a:rPr b="0" lang="en-US" sz="3600" spc="-1" strike="noStrike">
                <a:solidFill>
                  <a:srgbClr val="00b050"/>
                </a:solidFill>
                <a:latin typeface="Saysettha Unicode"/>
                <a:ea typeface="Saysettha Unicode"/>
              </a:rPr>
              <a:t>(LSIS)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Saysettha Unicode"/>
                <a:cs typeface="Saysettha Unicode"/>
              </a:rPr>
              <a:t>ການອົບຮົມນັກເດີນສຳຫລວ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Saysettha Unicode"/>
                <a:cs typeface="Saysettha Unicode"/>
              </a:rPr>
              <a:t>ໝວດອາການເຈັບເປັ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290520" y="1143000"/>
          <a:ext cx="8472600" cy="5592600"/>
        </p:xfrm>
        <a:graphic>
          <a:graphicData uri="http://schemas.openxmlformats.org/drawingml/2006/table">
            <a:tbl>
              <a:tblPr/>
              <a:tblGrid>
                <a:gridCol w="4357800"/>
                <a:gridCol w="1447560"/>
                <a:gridCol w="1295640"/>
                <a:gridCol w="13716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ໝວດອາກາ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Rural w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Rural w/o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ບໍ່ສາມາດດື່ມ ແລະ ດູດນົມບໍ່ໄດ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ເຈັບໜັກຂ້ຶ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ອາການໄຂ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8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7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ຫາຍໃຈໄ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ຫາຍໃຈຍາ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ເລືອດໃນອາຈົ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ດື່ມໄດ້ໜ້ອ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18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ອາການອື່ນໆອີ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8"/>
          <p:cNvSpPr/>
          <p:nvPr/>
        </p:nvSpPr>
        <p:spPr>
          <a:xfrm>
            <a:off x="228600" y="1922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% 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cs typeface="Saysettha Unicode"/>
              </a:rPr>
              <a:t>ຂອງແມ່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/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cs typeface="Saysettha Unicode"/>
              </a:rPr>
              <a:t>ຜູ້ເບິ່ງແຍງເດັກ ທີ່ມີ ຄວາມຮູ້ກ່ຽວກັບໝວດອາການ ສຳລັບການນຳເດັກໄປພົບແພດ ຖ້າເດັກມີອາການ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816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ຫວັດຂອງແມ່ຍິ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ກັບກຳປະຫວັດຂອງແມ່ຍິງກ່ຽວກັບ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ນເດືອນປີເກີດ ແລະ ອາຍ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ຶກສາ ແລະສະພາບການຮູ້ໜັງສ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ຖາມຄຳຖາມ ນຳຜູ້ເປັນແມ່່ ແລະ ຜູ້ດູແລເດັກທຸກຄົນ 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ຂອງເດັກຕຳ່ກວ່າ 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ປີ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ການຕອບຕ້ອງເປັນທຳມະຊາ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ຖາມເຈາະຈີ້ມວ່າ ‘ໝວດອາການໃດອີກ</a:t>
            </a:r>
            <a:r>
              <a:rPr b="1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 ແລະສືບຕໍ່ຖາມຫາອາການ ຫລື ໝວດອາການອື່ນອີກຈົນກວ່າ ແມ່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ຜູ້ດູແລເດັກ ບໍ່ສາມາດບອກເຖິງອາການໃດໄດ້ອີ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ຂີດວົງອ້ອມທຸກໝວດອາການທີ່ກ່າວເຖິງ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ແຕ່ຢາແນະນຳຄຳຕອບໃຫ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Saysettha Unicode"/>
                <a:cs typeface="Saysettha Unicode"/>
              </a:rPr>
              <a:t>ຈຸດສຳຄັ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609480" y="152280"/>
          <a:ext cx="77263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7726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ອົບຮົມນັກເດີນສຳຫຼວ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0948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ບໍ່ເຂົ້າເຖິງການບໍລິການວາງແຜນ ຄອບຄົ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343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ັດສ່ວນຂອງຜູ້ຍິງອາຍຸ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15-49 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 ທີ່ກຳລັງແຕ່ງງານ ຫຼືປະຈຸບັນຢູ່ ຮ່ວມຜູ້ຊາຍທີ່ຢູ່ໃນໄວຈະເລິນພັນ ແລະ ຕ້ອງການມີລູກຫ່າງ ຫຼື ຈຳກັດຈຳນວນເດັກ ແລະປະຈຸບັນບໍ່ໄດ້ໃຊ້ວິທີຄຸມກຳເນີ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ະເພດຂອງການບໍ່ເຂົ້າເຖິງການບໍລິການວາງແຜນຄອບຄົວ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ລັບຜູ້ຢາກມີລູກຫ່າງ ແຕ່ບໍ່ເຂົ້າເຖິງການບໍລິການວາງແຜນຄອບ ຄົວ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ຜູ້ຍິງບໍ່ຕ້ອງການມີລູກຜູ້ຕໍໄປແຕ່ປະຈຸບັນບໍ່ໃຊ້ວິທີຄຸມກຳເນີດ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ຳລັບຜູ້ຕ້ອງການຢຸດ ຫຼື ຈຳກັດຂະໜາດຂອງຄອບຄົວ ແຕ່ບໍ່ ເຂົ້າເຖິງການບໍລິການວາງແຜນຄອບຄົວ 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ຜູ້ຍິງບໍ່ຕ້ອງການມີລູກອີກ ແຕ່ປະຈຸບັນບໍ່ໃຊ້ວິທີຄຸມກຳເນີດ</a:t>
            </a:r>
            <a:r>
              <a:rPr b="0" lang="en-GB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ປົ້າໝາຍ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ອງເປົ້າໝາຍສະຫະສະວັດເພື່ອການ ພັດທະນາ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MDG5),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ດັດສະນີໝາຍ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ອງເປົ້າໝາຍຍ່ອຍ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MDG # 5.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ສຶກສາໄດ້ເຫັນວ່າ ການບໍ່ຕ້ອງການຖືພາແມ່ນເປັນເງື່ອນໄຂ ພາໃຫ້ມີຄວາມສ່ຽງສູງຕໍ່ຊີວິ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%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ຍິງທີ່ກຳລັງແຕ່ງງານທີ່ເຂົ້າບໍ່ເຖິງການບໍລິການວາງແຜນ ຄອບຄົວ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(LRHS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880" y="4114800"/>
          <a:ext cx="4038840" cy="2674800"/>
        </p:xfrm>
        <a:graphic>
          <a:graphicData uri="http://schemas.openxmlformats.org/drawingml/2006/table">
            <a:tbl>
              <a:tblPr/>
              <a:tblGrid>
                <a:gridCol w="1390680"/>
                <a:gridCol w="1324080"/>
                <a:gridCol w="1324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ອາຍ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ຢາກມີ ລູກຫ່າ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ຢາກຈຳກັດຂະໜາດຂອງຄອບຄົ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5 –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 –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5 –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648320" y="4086360"/>
          <a:ext cx="4114800" cy="2400120"/>
        </p:xfrm>
        <a:graphic>
          <a:graphicData uri="http://schemas.openxmlformats.org/drawingml/2006/table">
            <a:tbl>
              <a:tblPr/>
              <a:tblGrid>
                <a:gridCol w="1419120"/>
                <a:gridCol w="1346040"/>
                <a:gridCol w="1349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ອາຍ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ຢາກມີ ລູກຫ່າ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ຢາກຈຳກັດຂະໜາດຂອງຄອບຄົ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35 –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0 –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3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5 –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93" name="Oval 7"/>
          <p:cNvSpPr/>
          <p:nvPr/>
        </p:nvSpPr>
        <p:spPr>
          <a:xfrm>
            <a:off x="6324480" y="5943600"/>
            <a:ext cx="914400" cy="5335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7467480" y="6019920"/>
            <a:ext cx="914400" cy="533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44193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aysettha OT"/>
                <a:cs typeface="Saysettha OT"/>
              </a:rPr>
              <a:t>ຂໍ້ຄວນເອົາໃຈໃສ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ໝາຍວ່າຄຳຕອບສາມາດເປັນເດືອນ ຫຼື ປີ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ໝາຍອ້ອມ ‘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1’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ຄຳຕອບວ່າ ເປັນເດືອນ ຫຼື ‘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2’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ຄຳຕອບວ່າເປັນປີ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ບັນທຶກຄຳຕອບໃສ່ຫວ່າງ ທີ່ເໝາະສົ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7848720" cy="2590920"/>
        </p:xfrm>
        <a:graphic>
          <a:graphicData uri="http://schemas.openxmlformats.org/drawingml/2006/table">
            <a:tbl>
              <a:tblPr/>
              <a:tblGrid>
                <a:gridCol w="3676680"/>
                <a:gridCol w="2814480"/>
                <a:gridCol w="135756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UN7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ທ່ານຕ້ອງການລໍຖ້າອີກດົນປານໃດ ຈຶ່ງຈະເອົາລູກຜູ້ຕໍ່ມາອີກ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ດືອນ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  __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..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  __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-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ວລາອັນໃກ້ນີ້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/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ດຽວນີ້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cs typeface="Saysettha OT"/>
                        </a:rPr>
                        <a:t>ບໍ່ສາມາດຖືພາ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cs typeface="Saysettha OT"/>
                        </a:rPr>
                        <a:t>ຫຼັງແຕ່ງງານ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cs typeface="Saysettha OT"/>
                        </a:rPr>
                        <a:t>ອື່ນໆ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	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2503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cs typeface="Saysettha OT"/>
                        </a:rPr>
                        <a:t>ບໍ່ຮູ້ຈັກ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994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Lao"/>
                          <a:ea typeface="Angsana New"/>
                        </a:rPr>
                        <a:t>UN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ອົບຮົມນັກເດີນສຳຫຼວ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aysettha Lao"/>
                <a:cs typeface="Saysettha OT"/>
              </a:rPr>
              <a:t>ທັດສະນະຄະຕິຕໍ່ການໃຊ້ຄວາມຮຸນແຮງໃນຄອບຄົ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ໃຊ້ຄວາມຮຸນແຮງຕໍ່ແມ່ຍິງແມ່ນເລື່ອງທີ່ມີຄວາມ ອ່ອນໄຫວສູງເຖິງຄວາມຮູ້ສຶ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ັນແຕະຕ້ອງເຖິງບັນຫາກ່ຽວກັບອຳນາດກຽດສັກສີ</a:t>
            </a:r>
            <a:r>
              <a:rPr b="0" lang="en-US" sz="29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US" sz="29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ົດບາດຍິງຊາຍ ແລະ ເພດສຳພັນ</a:t>
            </a:r>
            <a:r>
              <a:rPr b="0" lang="en-US" sz="29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ັນມີຜົນກະທົບເຖິງການຢູ່ດີກິນດີ ແລະ ສຸຂະພາບຂອງ ແມ່ຍິງກໍຄືການຢູ່ດີກິນດີເດັກນ້ອຍທີ່ເປັນຮູ້ເຫັນກ່ຽວກັບ ເລື່ອງນີ້</a:t>
            </a:r>
            <a:r>
              <a:rPr b="0" lang="en-US" sz="2900" spc="-1" strike="noStrike">
                <a:solidFill>
                  <a:srgbClr val="002060"/>
                </a:solidFill>
                <a:latin typeface="Saysettha OT"/>
                <a:ea typeface="Saysettha O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" y="-36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ຄວາມເປັນມາ </a:t>
            </a:r>
            <a:r>
              <a:rPr b="1" lang="en-US" sz="3600" spc="-1" strike="noStrike">
                <a:solidFill>
                  <a:srgbClr val="c00000"/>
                </a:solidFill>
                <a:latin typeface="Saysettha OT"/>
                <a:ea typeface="Saysettha OT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ຕໍ່</a:t>
            </a:r>
            <a:r>
              <a:rPr b="1" lang="en-US" sz="3600" spc="-1" strike="noStrike">
                <a:solidFill>
                  <a:srgbClr val="c00000"/>
                </a:solidFill>
                <a:latin typeface="Saysettha OT"/>
                <a:ea typeface="Saysettha OT"/>
              </a:rPr>
              <a:t>)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ການສຳຫຼວດດັດສະນີໝາຍສັງຄົມລາວຈະສະໜອງ</a:t>
            </a:r>
            <a:r>
              <a:rPr b="1" lang="en-GB" sz="3000" spc="-1" strike="noStrike" u="sng">
                <a:solidFill>
                  <a:srgbClr val="002060"/>
                </a:solidFill>
                <a:uFillTx/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່ວນຮ້ອຍຂອງແມ່ຍິງອາຍຸ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15-49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 ທີ່ບອກວ່າຜົວ ຫຼືຄູ່ຮັກເຮັດຖືກຕ້ອງທີ່ຜົວຕົບຕີແລະທຳຮ້າຍເມຍຂອງລາວ </a:t>
            </a:r>
            <a:r>
              <a:rPr b="0" lang="en-GB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ຢ່າງ ໜ້ອຍ </a:t>
            </a:r>
            <a:r>
              <a:rPr b="0" lang="en-GB" sz="2800" spc="-1" strike="noStrike" u="sng">
                <a:solidFill>
                  <a:srgbClr val="002060"/>
                </a:solidFill>
                <a:uFillTx/>
                <a:latin typeface="Saysettha OT"/>
                <a:ea typeface="Saysettha OT"/>
              </a:rPr>
              <a:t>1 </a:t>
            </a:r>
            <a:r>
              <a:rPr b="0" lang="en-GB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ຄັ້ງ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ໃນລາຍການຫຼືສະພາບດັ່ງລຸ່ມນີ້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(1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ມຍອອກເຮືອນໄປບໍ່ໄດ້ຄອບຜົວ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(2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ມຍບໍ່ເອົາໃຈໃສ່ຕໍ່ລູກ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(3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ມຍຖຽງຜົວ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(4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ມຍບໍ່ຍອມຮ່ວມເພດນຳ</a:t>
            </a: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(5)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ມຍເຮັດອາຫານໃໝ້ເວລາແຕ່ງກິນ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ຄົ້ນຄວ້າຜ່ານມ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ພື່ອຊິ້ນສຸດໃນການໃຊ້ຄວາມຮຸນແຮງເຫັນວ່າຄວນປະຕິບັດ ດັ່ງນີ້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ປ່ຽນແປງດ້ານພຶດຕິກຳ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່ມືນເມົ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ັດທະນາ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ບັນດາກອບຂອງລະບຽບກົດໝາຍແລະນະໂຍ ບາຍ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ເພື່ອຫ້າມ ແລະ ບໍ່ໃຫ້ມີເລື້ອງນີ້ອີກ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ັບປຸງການ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ເຂົ້າເຖິງຊັບພະຍາກອນດ້ານເສດຖະກິດຂອງ ແມ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່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ຍິງ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ແລະການເຂົ້າເຖິງການສຶກສາຂອງເດັກຍິ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າຍຸ ແລະ ວັນທີ່ເກີ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ມີຄວາມສຳຄັ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ຕັກນິກໃນການຖາມເຈາະຈີ້ມ ແລະການກວດສອບເບີ່ງຄວາມຖືກຕ້ອງຂອງຂໍ້ມູນທີ່ໄດ້ຮັ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666880"/>
          <a:ext cx="8229600" cy="1941480"/>
        </p:xfrm>
        <a:graphic>
          <a:graphicData uri="http://schemas.openxmlformats.org/drawingml/2006/table">
            <a:tbl>
              <a:tblPr/>
              <a:tblGrid>
                <a:gridCol w="1066680"/>
                <a:gridCol w="1228680"/>
                <a:gridCol w="59342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ດືອ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1" lang="lo-LA" sz="20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ພືດສະພ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ທຳອີດ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ບວກຈໍານວນປີແລະອາຍຸທີ່ໃຫ້ມາ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(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ໃນຂໍ້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WB1)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ແມ່ນປີ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ຈາກນັ້ນກວດເບີ່ງເດືອ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.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ການສຳພາດດຳເນີນພາຍຫລັງ</a:t>
                      </a:r>
                      <a:r>
                        <a:rPr b="0" lang="lo-LA" sz="20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ເດືອນພືດສະພາ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ດັ່ງນັ້ນອາຍຸປີເຕັມແມ່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51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(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ຮູ້ວັນທີ່ເກີດ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ຈຳເປັນຕ້ອງໄດ້ກວດເບີ່ງກັບວັນທີ່ສຳພາດເຊັ່ນກັ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).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ການສຳພາດດຳເນີນກ່ອນ</a:t>
                      </a:r>
                      <a:r>
                        <a:rPr b="0" lang="lo-LA" sz="20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ເດືອນພືດສະພາ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ດັ່ງນັ້ນອາຍຸປີເຕັມ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ແມ່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50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ິ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ຂໍ້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HL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+ HL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47560" y="4724280"/>
          <a:ext cx="8215560" cy="1981440"/>
        </p:xfrm>
        <a:graphic>
          <a:graphicData uri="http://schemas.openxmlformats.org/drawingml/2006/table">
            <a:tbl>
              <a:tblPr/>
              <a:tblGrid>
                <a:gridCol w="1281240"/>
                <a:gridCol w="990720"/>
                <a:gridCol w="5943600"/>
              </a:tblGrid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1" lang="lo-LA" sz="18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ມິຖຸນ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ທຳອິດ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ບວກຈຳນວນປີແລະອາຍຸທີ່ໃຫ້ມາ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(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ໃນຂໍ້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WB1)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ແມ່ນປ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ຈາກນັ້ນກວດເບີ່ງເດືອ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.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ການສຳພາດດຳເນີນພາຍຫລັງ</a:t>
                      </a:r>
                      <a:r>
                        <a:rPr b="0" lang="lo-LA" sz="20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ເດືອນມິຖຸນາ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ດັ່ງນັ້ນອາຍຸປີເຕັມແມ່ນ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5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(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ຮູ້ວັນທີ່ເກີດ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ຈຳເປັນຕ້ອງໄດ້ກວດກັບເບີ່ງວັນທີ່ສຳພາດເຊັ່ນກັນ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).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ຖ້າການສໍາພາດດໍາເນີນກ່ອນ</a:t>
                      </a:r>
                      <a:r>
                        <a:rPr b="0" lang="lo-LA" sz="2000" spc="-1" strike="noStrike">
                          <a:solidFill>
                            <a:srgbClr val="ff0000"/>
                          </a:solidFill>
                          <a:latin typeface="Saysettha OT"/>
                          <a:cs typeface="Saysettha OT"/>
                        </a:rPr>
                        <a:t>ເດືອນມິຖຸນາ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,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ດັ່ງນັ້ນອາຍຸປີເຕັມແມ່ນ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4 </a:t>
                      </a:r>
                      <a:r>
                        <a:rPr b="0" lang="lo-LA" sz="20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ຂໍ້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HL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ປີ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+ HL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285840"/>
                          <a:tab algn="l" pos="380880"/>
                          <a:tab algn="l" pos="457200"/>
                          <a:tab algn="l" pos="476280"/>
                          <a:tab algn="l" pos="571680"/>
                          <a:tab algn="l" pos="666720"/>
                          <a:tab algn="l" pos="762120"/>
                          <a:tab algn="l" pos="857160"/>
                          <a:tab algn="l" pos="914400"/>
                          <a:tab algn="l" pos="952560"/>
                          <a:tab algn="l" pos="1047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ໃຊ້ຄວາມຮຸນແຮງໃນຄົວເຮືອນບອກວ່າຖືກຕ້ອງຈາກ ແມ່ຍິງເປັນສ່ວນໃຫຍ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1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86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290520" y="1589040"/>
          <a:ext cx="8472600" cy="4354560"/>
        </p:xfrm>
        <a:graphic>
          <a:graphicData uri="http://schemas.openxmlformats.org/drawingml/2006/table">
            <a:tbl>
              <a:tblPr/>
              <a:tblGrid>
                <a:gridCol w="4357800"/>
                <a:gridCol w="1447560"/>
                <a:gridCol w="1295640"/>
                <a:gridCol w="13716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ລາຍການ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ສະພາບກາ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ເຂດຕົວເມືອ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ເຂດຊົນນະ ບົດມີທາ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ເຂດຊົນນະ ບົດບໍ່ມີທາ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ມຍອອກເຮືອນໄປບໍ່ໄດ້ຄອບຜົວ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5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5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ມຍບໍ່ເອົາໃຈໃສ່ຕໍ່ລູກ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5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6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6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ມຍຖຽງຜົວ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2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61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ມຍບໍ່ຍອມຮ່ວມເພດນ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3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5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ເມຍເຮັດອາຫານໃໝ້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3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4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618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ສາຍເຫດອື່ນ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8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Box 3"/>
          <p:cNvSpPr/>
          <p:nvPr/>
        </p:nvSpPr>
        <p:spPr>
          <a:xfrm>
            <a:off x="30492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%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ອງແມ່ຍິງອາຍຸ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15-49 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 ທີ່ເຊື່ອວ່າຜົວເຮັດຖືກຕ້ອງທີ່ໄດ້ ຕົບຕີ ຫຼື ທຳຮ້າຍຮ່າງກາຍເມຍ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ea typeface="Saysettha OT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ູ່ຮັກຂອງລາວໃນສະພາບການຕໍ່ໄປນີ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486400" y="61722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MICS – Lao PDR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ຂໍ້ທີ່ຄວນເອົາໃຈໃສ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ນພາກນີ້ມີຄຳຖາມດຽວເທົ່ານັ້ນ ທີ່ຖາມເຖິງຄວາມຄິດເຫັນ ຂອງແມ່ຍິງກ່ຽວກັບການໃຊ້ຄວາມຮຸນແຮງໃນຄອບຄົ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ໝາຍຄວາມວ່າບໍ່ໄດ້ຖາມຜູ້ຍິງຜູ້ນັ້ນວ່າໄດ້ມີສ່ວນຮ່ວມໃນ ການນຳໃຊ້ຄວາມຮຸນແຮງບໍ່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່ານແຕ່ລະລາຍການດັງໆ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5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ກາ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ະພາບກາ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ລັບແຕ່ລະລາຍກາ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ີດອ້ອມເອົາລະຫັດທີ່ຕົງກັບຄຳຕອບ – ‘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1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 ‘ຖືກ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ວຄິດວ່າຜົວໄດ້ເຮັດຖືກທີ່ຕົບຕີ ຫຼື ທຳຮ້າຍເມຍ ໃນສະພາບແນວນັ້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, ‘2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 ‘ບໍ່ຖືກ’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‘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8’ </a:t>
            </a:r>
            <a:r>
              <a:rPr b="0" lang="en-GB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ວ່າ ຜູ້ຖືກສຳພາດບໍ່ຮູ້ ຫຼື ບໍ່ມີຄວາມຄິດເຫັ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98989"/>
                </a:solidFill>
                <a:latin typeface="Saysettha Lao"/>
              </a:rPr>
              <a:t>Á®®-¦º®-«¾´-¦¿-Íñ®-Á´ú¨ò¤- </a:t>
            </a:r>
            <a:r>
              <a:rPr b="1" lang="en-US" sz="3600" spc="-1" strike="noStrike">
                <a:solidFill>
                  <a:srgbClr val="002060"/>
                </a:solidFill>
                <a:latin typeface="Saysettha Lao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98989"/>
                </a:solidFill>
                <a:latin typeface="Saysettha Lao"/>
              </a:rPr>
              <a:t>¡¾­-ÁªÈ¤-¤¾­</a:t>
            </a:r>
            <a:r>
              <a:rPr b="0" lang="lo-LA" sz="40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pt-BR" sz="4000" spc="-1" strike="noStrike">
                <a:solidFill>
                  <a:srgbClr val="898989"/>
                </a:solidFill>
                <a:latin typeface="Saysettha Lao"/>
              </a:rPr>
              <a:t>/¡¾</a:t>
            </a:r>
            <a:r>
              <a:rPr b="0" lang="lo-LA" sz="40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pt-BR" sz="4000" spc="-1" strike="noStrike">
                <a:solidFill>
                  <a:srgbClr val="898989"/>
                </a:solidFill>
                <a:latin typeface="Saysettha Lao"/>
              </a:rPr>
              <a:t>­-µøÈ-»È¸´-¡ñ</a:t>
            </a:r>
            <a:r>
              <a:rPr b="0" lang="lo-LA" sz="40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pt-BR" sz="4000" spc="-1" strike="noStrike">
                <a:solidFill>
                  <a:srgbClr val="898989"/>
                </a:solidFill>
                <a:latin typeface="Saysettha Lao"/>
              </a:rPr>
              <a:t>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2774880" y="130032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4288680" y="17064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09480" y="1238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¡¾­¦¿¹ì¸©©ñ©¦½­</a:t>
            </a:r>
            <a:r>
              <a:rPr b="1" lang="lo-LA" sz="40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ó Ï¾</a:t>
            </a:r>
            <a:r>
              <a:rPr b="1" lang="lo-LA" sz="4000" spc="-1" strike="noStrike">
                <a:solidFill>
                  <a:srgbClr val="002060"/>
                </a:solidFill>
                <a:latin typeface="Saysettha Lao"/>
              </a:rPr>
              <a:t>ຍ</a:t>
            </a: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¨¦ñ¤£ö</a:t>
            </a:r>
            <a:r>
              <a:rPr b="1" lang="lo-LA" sz="4000" spc="-1" strike="noStrike">
                <a:solidFill>
                  <a:srgbClr val="002060"/>
                </a:solidFill>
                <a:latin typeface="Saysettha Lao"/>
              </a:rPr>
              <a:t>ມ</a:t>
            </a: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´ì¾¸ </a:t>
            </a:r>
            <a:br>
              <a:rPr sz="4000"/>
            </a:b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¡¾­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±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</a:rPr>
              <a:t>ສ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ô¡ºö®»ö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</a:rPr>
              <a:t>ມ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´­ñ¡À©ó</a:t>
            </a:r>
            <a:r>
              <a:rPr b="1" lang="lo-LA" sz="3200" spc="-1" strike="noStrike">
                <a:solidFill>
                  <a:srgbClr val="002060"/>
                </a:solidFill>
                <a:latin typeface="Saysettha Lao"/>
              </a:rPr>
              <a:t>ນ</a:t>
            </a:r>
            <a:r>
              <a:rPr b="1" lang="en-US" sz="3200" spc="-1" strike="noStrike">
                <a:solidFill>
                  <a:srgbClr val="002060"/>
                </a:solidFill>
                <a:latin typeface="Saysettha Lao"/>
              </a:rPr>
              <a:t>­¦¿¹ì¸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47760" y="12812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ÁªÈ¤¤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¡Èº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º¾¨÷ 18 ¯ó Á´È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£¸¾´À¯ñ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¥ò¤ ¦¿ìñ®Á´È¨ò¤ Î÷È´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Éº¨¥¿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¸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Í¾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59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ºó¤ª¾´¡¾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¯½À´ó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¢º¤ºö¤¡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µø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óÀ§ñ®, ´óÁ´È¨ò¤º¾¨÷ 20Œ24 ¯ó ¯½´¾­ 65 ìÉ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£ö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ÁªÈ¤¤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¹ìõµøÈ»È¸´¡ñ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¡Èº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º¾¨÷ 18 ¯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59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ÁªÈ¤¤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Ã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Ä¸À©ñ¡¦‰¤°ö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Ã¹ÉÀ©ñ¡¨ò¤«õ²¾Ä¸Â²© Áì½«õ¡Á®È¤Á¨¡¥¾¡¦ñ¤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ຄ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ö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59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aysettha Lao"/>
              </a:rPr>
              <a:t>À¯í¾Ï¾¨¦÷¢½²¾®À©ñ¡Âì¡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: µ÷ªò¡¾­¡¾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¯½ªò®ñ© »ó©£º¤ê†À¯ñ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ê¿»É¾¨À©ñ¡ À§„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®ñ¤£ñ®À©ñ¡ Ã¹ÉÁªÈ¤¤¾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 [...] À§…¤À¯ñ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­Ã§É£¸¾´»÷­</a:t>
            </a:r>
            <a:r>
              <a:rPr b="0" lang="lo-LA" sz="28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2800" spc="-1" strike="noStrike">
                <a:solidFill>
                  <a:srgbClr val="000000"/>
                </a:solidFill>
                <a:latin typeface="Saysettha Lao"/>
              </a:rPr>
              <a:t>Á»¤ªÒ¦ò©êòÀ©ñ¡ Áì½Á´È¨ò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59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Rectangle 4" descr=""/>
          <p:cNvPicPr/>
          <p:nvPr/>
        </p:nvPicPr>
        <p:blipFill>
          <a:blip r:embed="rId1"/>
          <a:stretch/>
        </p:blipFill>
        <p:spPr>
          <a:xfrm>
            <a:off x="12600" y="212760"/>
            <a:ext cx="50166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9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Saysettha Lao"/>
              </a:rPr>
              <a:t>£¸¾´§÷¡§÷´¢º¤¡¾­ÁªÈ¤¤¾­Ã­Ä¸À©ñ¡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Content Placeholder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5638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609480" y="12193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% ¢º¤Á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່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´È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¨ò¤º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ຸ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¨÷ 20Œ24 ¯ó ¯½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65 ìÉ¾­£ö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ÁªÈ¤¤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¹ìõµøÈ»È¸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´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Ã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º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ຸ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¨÷ 18 ¯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ontent Placeholder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6"/>
          <p:cNvSpPr/>
          <p:nvPr/>
        </p:nvSpPr>
        <p:spPr>
          <a:xfrm>
            <a:off x="4044960" y="6324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ysettha Lao"/>
              </a:rPr>
              <a:t>Á¹ìÈ¤¢Ó´</a:t>
            </a:r>
            <a:r>
              <a:rPr b="1" i="1" lang="lo-LA" sz="16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1" i="1" lang="en-US" sz="1600" spc="-1" strike="noStrike">
                <a:solidFill>
                  <a:srgbClr val="000000"/>
                </a:solidFill>
                <a:latin typeface="Saysettha Lao"/>
              </a:rPr>
              <a:t>ø</a:t>
            </a:r>
            <a:r>
              <a:rPr b="1" i="1" lang="lo-LA" sz="16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1" i="1" lang="en-US" sz="1600" spc="-1" strike="noStrike">
                <a:solidFill>
                  <a:srgbClr val="000000"/>
                </a:solidFill>
                <a:latin typeface="Saysettha Lao"/>
              </a:rPr>
              <a:t>­: ¡¾­¦¿¹ì¸©¦÷¢½²¾®¥½Àìó­²ñ­ 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09480" y="3808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% ¢º¤Á´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</a:rPr>
              <a:t>ມ</a:t>
            </a: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È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</a:rPr>
              <a:t>ຍ</a:t>
            </a: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¨ò¤ê†ÁªÈ¤¤¾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</a:rPr>
              <a:t>ນ</a:t>
            </a: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­£˜¤ê¿ºò©Ã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</a:rPr>
              <a:t>ນ</a:t>
            </a: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­ º¾</a:t>
            </a:r>
            <a:r>
              <a:rPr b="1" lang="lo-LA" sz="3200" spc="-1" strike="noStrike">
                <a:solidFill>
                  <a:srgbClr val="0070c0"/>
                </a:solidFill>
                <a:latin typeface="Saysettha Lao"/>
              </a:rPr>
              <a:t>ຍຸ</a:t>
            </a:r>
            <a:r>
              <a:rPr b="1" lang="en-US" sz="3200" spc="-1" strike="noStrike">
                <a:solidFill>
                  <a:srgbClr val="0070c0"/>
                </a:solidFill>
                <a:latin typeface="Saysettha Lao"/>
              </a:rPr>
              <a:t>¨÷ 15 ¯ó µøÈ ¦¯¯. ì¾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Rectangle 4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5139000" cy="12016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347760" y="1676520"/>
            <a:ext cx="8229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Ã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Á®®¦º®«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´, 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ÁªÈ¤¤¾­Á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È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ºÉ¾¤ºó¤ ª½¹ìº©Ã¦ú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êñ¤ 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ê¾¤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Áì½®Ò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ê¾¤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 À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ຊ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µøÈ»È¸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´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US" sz="2400" spc="-1" strike="noStrike">
                <a:solidFill>
                  <a:srgbClr val="000000"/>
                </a:solidFill>
                <a:latin typeface="Saysettha Lao"/>
              </a:rPr>
              <a:t>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«É¾Á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È¨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ò¤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óÀ²ˆº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ຊ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¨ ÁªÈ®ÒÀ£ó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¨µøÈ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¿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¡ñ®ì¾¸, Á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È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¨ò¤°øÉ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šÁ´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È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¥½®Ò«õ¡²ò¥¾ì½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¾¸È¾Ä©ÉÁªÈ¤¤¾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´óÀ²©¦¿²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Â©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ຍ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¨®ñ¤Àºó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 ¹ìõ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ຊ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‰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¸£¾¸¥½®Ò«õ¡ì¸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ມ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´Àºö¾Ã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ê†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47760" y="128124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À¯ñ­</a:t>
            </a:r>
            <a:r>
              <a:rPr b="1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ÏÉ¾¨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 - (a) Á´È­Á´È¨ò¤ê†À£ó¨Ä©ÉÁªÈ¤¤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 Áì½¦¾´ó¢º¤ À¢ö¾À¥í¾ Ä©ÉÀ¦¨§ó¸ò©, Áì½ (b) Á´È­Á´È¨ò¤ê†À£ó¨µøÈ»¸È´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¡ñ® °øÉ§¾¨ ÁªÈ®ÒÄ©ÉÁªÈ¤¤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 Áì½°øÉ§¾¨ê†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£øÈ»È¸´ ¢º¤À¢ö¾À¥í¾ Ä©ÉÀ¦¨§ó¸ò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µÈ¾»É¾¤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 - £¸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Ã§É¡ñ®Á´È¨ò¤ê†À£ó¨Ä©ÉÁªÈ¤¤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 Áì½¯½¡ñ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µÈ¾¤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ê¾¤¡¾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Á¨¡¡ñ­</a:t>
            </a:r>
            <a:r>
              <a:rPr b="1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1" lang="en-GB" sz="2400" spc="-1" strike="noStrike">
                <a:solidFill>
                  <a:srgbClr val="000000"/>
                </a:solidFill>
                <a:latin typeface="Saysettha Lao"/>
              </a:rPr>
              <a:t>µøÈ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 - £¸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Ã§É (a) ¦¿ìñ®Á´È¨ò¤ê†À£ó¨Ä©ÉÁªÈ¤¤¾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, ÁªÈµøÈ¡ñ®°ö¸¢º¤À¢ö¾À¥í¾ 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À¸ì¾®Ò©ö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, Áì½ (b) ¦¿ìñ®Á´È¨ò¤ ê†À£ó¨µøÈ»¸È´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¡ñ® °øÉ§¾¨ ÁªÈ®ÒÄ©ÉÁªÈ¤¤¾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Áì½µøÈ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¿¡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¡ñ®°øÉ§¾¨ê†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£øÈ»È¸´ ¢º¤À¢ö¾À¥í¾À¯ñ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GB" sz="2400" spc="-1" strike="noStrike">
                <a:solidFill>
                  <a:srgbClr val="000000"/>
                </a:solidFill>
                <a:latin typeface="Saysettha Lao"/>
              </a:rPr>
              <a:t>­À¸ì¾®Ò©ö­</a:t>
            </a:r>
            <a:r>
              <a:rPr b="0" lang="lo-LA" sz="2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 indent="-37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Rectangle 4" descr=""/>
          <p:cNvPicPr/>
          <p:nvPr/>
        </p:nvPicPr>
        <p:blipFill>
          <a:blip r:embed="rId1"/>
          <a:stretch/>
        </p:blipFill>
        <p:spPr>
          <a:xfrm>
            <a:off x="12600" y="212760"/>
            <a:ext cx="63151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3600" spc="-1" strike="noStrike">
                <a:solidFill>
                  <a:srgbClr val="0099ff"/>
                </a:solidFill>
                <a:latin typeface="Calibri"/>
              </a:rPr>
              <a:t>(LSIS) </a:t>
            </a:r>
            <a:br>
              <a:rPr sz="3600"/>
            </a:br>
            <a:r>
              <a:rPr b="1" lang="lo-LA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ການ</a:t>
            </a: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ອົບຮົມນັກເດີນສຳຫຼວ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7720" y="3276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ແບບສອບຖາມສຳຫລັບແມ່ຍິງ</a:t>
            </a:r>
            <a:r>
              <a:rPr b="1" lang="en-US" sz="3600" spc="-1" strike="noStrike">
                <a:solidFill>
                  <a:srgbClr val="0099ff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າກ</a:t>
            </a:r>
            <a:r>
              <a:rPr b="1" lang="lo-LA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ຶດຕິກຳໃນການມີເພດສຳພັ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ຶກສາ</a:t>
            </a:r>
            <a:r>
              <a:rPr b="1" lang="en-US" sz="44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ສະພາບການຮູ້ໜັງສ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ລັບການຄິດໄລ່ອັດຕາການຮູ້ໜັງສືຂອງຈຳພວກແມ່ຍິງອີງຕາມກຸ່ມອາຍຸຕາມລຳດັບ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ົວຢ່າງ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15+, 15-24, 15–49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ຶກສາເປັນດັ່ງຄຸນລັກສະນະປະຫວັດຄວາມເປັນມ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ຜູ້ຕອບທີ່ມີການສຶກສາລະດັບປະຖົມ ຫຼື ຕ່ຳກວ່າຕ້ອງໄດ້ເອົາປະໂຫຍກທີ່ງ່າຍດາຍໃຫ້ອ່ານ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້ອງຮັບປະກັນວ່າໄດ້ສະແດງແຜ່ນເຈັ້ຍທີ່ມີປະໂຫຍກໃຫ້ອ່ານທີ່ງ່າຍດາຍ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ິ່ງສຳຄັນແມ່ນການສະໜອງປະໂຫຍກທີ່ເປັນພາສາທ້ອງຖີ່ນໃຫ້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–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ີ້ແມ່ນກ່ຽວກັບການຮູ້ໜັງສືໃນພາສາໃດໜື່ງ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ື່ງບໍ່ແມ່ນພາສາໃນແບບສອບຖາມ ຫຼື ພາສາລາ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ວັດຖຸປະສົ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ວັດແທກພຶດຕິກຳຂອງຈຳພວກແມ່ຍິງທີ່ພາໃຫ້ພວກເຂົາມີຄວາມສ່ຽງຕໍ່ການຕິດເຊື້ອເຮັດໄອວີ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HIV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)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ີ່ມຂື້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ຕິດຕາມກວດກາຄວາມຄືບໜ້າແລະຜົນສຳເລັດ ວັດຖຸປະສົງແລະເປົ້າໝາຍກ່ຽວກັບການກັນຕໍ່ເຊື້ອເຮັດໄອວີລະດັບຊາ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ຕິດຕາມກວດກາຄວາມຄືບໜ້າແລະຜົນສຳເລັດ ວັດຖຸປະສົງແລະການໃຫ້ຄຳໝັ້ນສັນຍາລະຫວ່າງຊາດ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–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ຊັ່ນ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MDG 6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UNG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ປົ້າໝາຍໃນການສຳພາ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ບັນດາຄຳຖາມແມ່ນຖາມແມ່ຍິງທຸກຄົນທີ່ມີອາຍຸ    </a:t>
            </a:r>
            <a:r>
              <a:rPr b="1" lang="en-US" sz="3200" spc="-1" strike="noStrike">
                <a:solidFill>
                  <a:srgbClr val="0070c0"/>
                </a:solidFill>
                <a:latin typeface="Saysettha OT"/>
                <a:ea typeface="Saysettha OT"/>
              </a:rPr>
              <a:t>15-49 </a:t>
            </a: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ປີ ຢູ່ໃນຄົວເຮືອ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ສຳພາດຕ້ອງດຳເນີນໃນບ່ອນທີ່ເປັນສ່ວນຕົ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້ອງຮັບປະກັນວ່າຄຳຕອບຂອງຜູ້ຖືກສຳພາດທັງໝົດແມ່ນຖືກເກັບຮັກສາໄວ້ເປັນຄວາມລັ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ຄຳຖາມເຫຼົ່ານີ້ອາດຈະສ້າງຄວາມເຂີນອາຍໃຫ້ແກ່ຜູ້ຕອບບາງຄົນ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;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ດັ່ງນັ້ນການຖາມພວກເຂົາກ່ຽວກັບສະພາບຄວາມເປັນຈິງທີ່ເກີດຂື້ນແລະບໍ່ຄວນເຮັດໃຫ້ພວກເຂົາຮູ້ສຶກມີຄວາມເຂີນອາຍຍ້ອນພຶດຕິກຳໃນການຊັກຖາມຂອງທ່ານເອ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ທ່າທີທີ່ໂຕ້ຕອບກັບທີ່ມັກເກີດສຳລັບບຸກຄົນຜູ້ທີ່ມີຄວາມເຂີນອາຍແມ່ນການຫົວ ຫຼື ຫົວຂວັ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ທ່ານຫົວຕອບກັບ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ຫຼືສະແດງທ່າທີວ່າທ່ານເຂີນອາຍເຊັ່ນດຽວກັນ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ຈະເຮັດໃຫ້ຜູ້ຕອບສຳພາດຄິດວ່າຄຳຖາມນັ້ນບໍ່ຈິງຈັ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ຈຸດທີ່ຄວນເອົາໃຈໃສ່ </a:t>
            </a:r>
            <a:r>
              <a:rPr b="1" lang="lo-LA" sz="40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lo-LA" sz="40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ໍ່</a:t>
            </a:r>
            <a:r>
              <a:rPr b="1" lang="lo-LA" sz="4000" spc="-1" strike="noStrike">
                <a:solidFill>
                  <a:srgbClr val="0070c0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ມີຄວາມສຳຄັນທີ່ສຸດໃນເວລາທີ່ທ່ານອ່ານປະໂຫຽກທຳອິດ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ເນັ້ນຕໍ່ຜູ້ຕອບສຳພາດວ່າຄຳຕອບຂອງພວກເຂົາຈະຖືກຮັກສາໄວ້ເປັນຄວາມລັບສຸດຂີດ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ຂໍ້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SB1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ຖາມອາຍຸຂອງຜູ້ຖືກສຳພາດແມ່ນໝາຍເຖີງອາຍຸໃນເວລາທີ່ລາວມີເພດສຳພັນຄັ້ງທຳອິດຊື່ງລາວເຄີຍມີ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ບໍ່ໄດ້ຖາມກ່ຽວກັບການມີເພດສຳພັນເທື່ອທຳອິດກັບຜົວ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/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ຄູ່ນອນໃນປະຈຸບັນຂອງລາວ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ຕ່ມັນໝາຍເຖີງການມີເພດສຳພັນຄັ້ງທຳອິດໃນຊີວິດຂອງລາ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ຈຸດທີ່ຄວນເອົາໃຈໃສ່</a:t>
            </a:r>
            <a:r>
              <a:rPr b="1" lang="lo-LA" sz="44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lo-LA" sz="4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ໍ່</a:t>
            </a:r>
            <a:r>
              <a:rPr b="1" lang="lo-LA" sz="4400" spc="-1" strike="noStrike">
                <a:solidFill>
                  <a:srgbClr val="0070c0"/>
                </a:solidFill>
                <a:latin typeface="Saysettha OT"/>
                <a:ea typeface="Saysettha O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32763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ຂໍ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SB3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ບັນທຶກຄຳຕອບຂອງຜູ້ຕອບສຳພາດໂດຍການໃຊ້ຫົວໜ່ວຍຂອງການວັດແທກອັນດຽວກັນທີ່ລາວໃຊ້ຢູ່ໃນຄຳຕອບຂອງລາວ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ົວຢ່າ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3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ອາທິດຜ່ານມ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2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3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ບ່ອນຫວ່າງທີ່ປະໄວ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4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ື້ຜ່ານມ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1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4’.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ຜູ້ຕອບ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ື້ຄືນນີ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1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0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ຜູ້ຕອບສຳພາດບອກເປັນເດືອ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ົວຢ່າ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ເດືອນທັນວ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ຫ້ໄລ່ຈຳນວນເດືອນ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ບັນທຶກຈຳນວນເດືອນໃສ່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09480" y="1143000"/>
          <a:ext cx="8077320" cy="2011320"/>
        </p:xfrm>
        <a:graphic>
          <a:graphicData uri="http://schemas.openxmlformats.org/drawingml/2006/table">
            <a:tbl>
              <a:tblPr/>
              <a:tblGrid>
                <a:gridCol w="3276720"/>
                <a:gridCol w="2895480"/>
                <a:gridCol w="1905120"/>
              </a:tblGrid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SB3.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ທ່ານ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-Ä©É-»È¸´-À²©-£˜¤-¦÷©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ທ້າຍເມື່ອໃດ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¡½ì÷­-¾®ñ­êô¡-À¯ñ­-¯ó «É¾-´ó-¡¾­-»È¸´-À²© 1 Íõ  Í¾¨-¯ó°È¾­´¾.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Lao"/>
                          <a:ea typeface="DokChampa"/>
                        </a:rPr>
                        <a:t> 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«É¾- 12 -À©õº­- Íõ- Í¾¨-¡¸È¾­˜­ -Ã¹È®ñ­êô¡-À¯ñ­-¯ó-À§„­-¡ñ­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´œ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1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º¾êò©-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2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-Í¾¨À©õº­-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3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¯ó°È¾­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4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Calibri"/>
                          <a:ea typeface="DokChampa"/>
                        </a:rPr>
                        <a:t>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ພາກຕໍ່ໄ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ລະອຽດ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ວິທີການຈົດກ່າຍໃສ່    ແບບສອບຖາ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ight Arrow 4"/>
          <p:cNvSpPr/>
          <p:nvPr/>
        </p:nvSpPr>
        <p:spPr>
          <a:xfrm>
            <a:off x="2590920" y="3048120"/>
            <a:ext cx="2743200" cy="14475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6228"/>
                </a:solidFill>
                <a:latin typeface="Saysettha OT"/>
                <a:cs typeface="Saysettha OT"/>
              </a:rPr>
              <a:t>ການຝຶກອົບຮົມນັກເດີນສໍາຫລວດ</a:t>
            </a:r>
            <a:br>
              <a:rPr sz="3600"/>
            </a:br>
            <a:r>
              <a:rPr b="0" lang="en-US" sz="3600" spc="-1" strike="noStrike">
                <a:solidFill>
                  <a:srgbClr val="4f6228"/>
                </a:solidFill>
                <a:latin typeface="Saysettha OT"/>
                <a:cs typeface="Saysettha OT"/>
              </a:rPr>
              <a:t>ສໍາລັບການສໍາຫລວດດັດສະນີໝາຍສັງຄົມລາ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61760" y="33526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ໍາລັບແມ່ຍິງກ່ຽວກັບ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ຄວາມຮູ້ກ່ຽວກັບ ພຕພ ແລະ ໂລກເອດ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Content Placeholder 4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ຈຸດປະສົ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ພື່ອວັດແທກຄວາມຮັບຮູ້ ແລະ ທັດສະນະຄະຕິກ່ຽວກັບ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HIV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AIDS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ນແມ່ຍິ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ພື່ອຕິດຕາມຄວາມຄືບໜ້າ ແລະ ຜົນສໍາເລັດບັນດາເປົ້າໝາຍລະດັບຊາດທາງດ້ານຂ່າວສານກ່ຽວກັບ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HIV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ການສຶກສ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ພື່ອຕິດຕາມຄວາມຄືບໜ້າ ແລະ ຜົນສໍາເລັດ ບັນດາເປົ້າໝາຍ ແລະ ຄວາມໝາຍໝັ້ນຂອງສາກົນ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-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ຊັ່ນວ່າ ເປົ້າໝາຍ ສະຫັ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ດ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ະວັດທີ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GASS,​ </a:t>
            </a:r>
            <a:r>
              <a:rPr b="0" lang="lo-LA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ເຂົ້າເຖິງການບໍລິການທຸກຖ້ວນໜ້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ກຸ່ມເປົ້າໝາ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ບບສອບຖາມແມ່ນໃຊ້ຖາມແມ່ຍິງໝົດທຸກຄົນທີ່ມີອາຍຸແຕ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15-49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ີ ຢູ່ໃນຄົວເຮືອນຫລັງນັ້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ໝາຍ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 ‘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ໂຮງຮຽນ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’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ມ່ນລວມມີໂຮງຮຽນປະຖົມ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ັດທະຍົມຕົ້ນ ແລະມັດທະຍົມປາຍ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ມທັງໂຮງຮຽນທີ່ມີລະດັບການສຶກສາຂັ້ນກາງອື່ນໆທີ່ຢູ່ໃນ</a:t>
            </a:r>
            <a:r>
              <a:rPr b="1" i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ະບົບໂຮງຮຽນສາມັນສຶກສ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ໂຮງຮຽນທີ່ສອນຫຼັກສູດທີ່ບໍ່ມີມາດຕະຖານ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ສຶກສານອກລະບົບ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)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ມ່ນບໍ່ໄດ້ລວມຢູ່ໃນນີ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ລັບລະດັບສູງສຸດທີ່ໄດ້ເຂົ້າໂຮງຮຽນ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ມ່ນບໍ່ສົນໃຈວ່າຈົບປີ ຫຼື ບໍ່ຈົບກໍຕາມ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ົວຢ່າງ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ແມ່ຍິງຄົນໜື່ງໄດ້ເຂົ້າຮຽນຢູ່ປີທີ່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1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ອງມັດທະຍົມຕອນປາຍໄດ້ພຽງແຕ່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າທິດ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ໝາຍເອົາ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 ‘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ັດທະຍົມຕອນປາຍ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ຕ່ວ່າສຳລັບຂັ້ນ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ຈົດກ່າຍຈຳນວນປີທີ່ຜູ້ຕອບສຳພາດ</a:t>
            </a:r>
            <a:r>
              <a:rPr b="1" lang="lo-LA" sz="2500" spc="-1" strike="noStrike" u="sng">
                <a:solidFill>
                  <a:srgbClr val="002060"/>
                </a:solidFill>
                <a:uFillTx/>
                <a:latin typeface="Saysettha OT"/>
                <a:cs typeface="Saysettha OT"/>
              </a:rPr>
              <a:t>ໄດ້ຮຽນຈົບ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ນລະດັບດັ່ງກ່າວນັ້ນ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ນ້ອຍກວ່າ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1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ັ້ນ ຢູ່ລະດັບດັ່ງກ່າວນັ້ນ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5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ຈົດກ່າຍ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 “</a:t>
            </a:r>
            <a:r>
              <a:rPr b="1" lang="en-GB" sz="2500" spc="-1" strike="noStrike">
                <a:solidFill>
                  <a:srgbClr val="002060"/>
                </a:solidFill>
                <a:latin typeface="Saysettha OT"/>
                <a:ea typeface="Saysettha OT"/>
              </a:rPr>
              <a:t>00”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ຄວາມເຂົ້າໃຈທີ່ຄົບຖ້ວ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າມຄໍາຖາມທໍາອິດ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[HA2 - HA4 - HA7]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ໍ່ຈໍາເປັນຕ້ອງປ່ຽນແປງ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ໍາຕອບທີ່ຖືກແມ່ນ “ສາມາດຕິດໄດ້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ຫລຸດຜ່ອນໄດ້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ປັນໄປໄດ້” ຕາມລໍາດັ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າມຄໍາຖາມຕໍ່ໄປ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[HA3 - HA5 – HA6]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ຖາມກ່ຽວກັບຄວາມເຂົ້າໃຈທີ່ຜິດພາດ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ະນັ້ນຄໍາຕອບທີ່ຖືກແມ່ນ “ບໍ່ສາມາດຕິດໄດ້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ທັດສະນະຄະຕິຕໍ່ການຍອມຮັບການຢູ່ຮ່ວມກັບຜູ້ຕິດເຊື້ອ </a:t>
            </a:r>
            <a:r>
              <a:rPr b="1" lang="en-US" sz="4000" spc="-1" strike="noStrike">
                <a:solidFill>
                  <a:srgbClr val="254061"/>
                </a:solidFill>
                <a:latin typeface="Saysettha OT"/>
                <a:ea typeface="Saysettha OT"/>
              </a:rPr>
              <a:t>HI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ໍາຖາມຂໍ້ </a:t>
            </a:r>
            <a:r>
              <a:rPr b="1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6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9 -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າມຄວາມເຫັນຂອງທ່ານ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ສົມມຸດວ່າມີນາຍຄູຜູ້ຍິງຜູ້ນື່ງມີເຊື້ອເອດສແຕ່ລາວບໍ່ມີອາການເຈັບເປັນຫຍັງ ລາວຄວນຈະໄດ້ຮັບອາມຸຍາດໃຫ້ສອນຢູ່ໃນໂຮງຮຽນນັ້ນຕໍ່ໄປບໍ່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0 -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່ານຈະຊື້ຜັກສົດຈາກແມ່ຄ້າບໍ່ຖ້າຫາກທ່ານຮູ້ວ່າແມ່ຄ້າຜູ້ນັ້ນມີເຊື້ອ ເອດສ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1 -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ວ່າສະມາຊິກຄອບຄົວຂອງທ່ານຜູ້ໃດຜູ້ນຶ່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ງ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ິດເຊື້ອເອດສ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​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່ານຍັງຈະເກັບໃວ້ເປັນຄວາມລັບຫລືບໍ່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ທັດສະນະຄະຕິຕໍ່ການຍອມຮັບການຢູ່ຮ່ວມກັບຜູ້ຕິດເຊື້ອ </a:t>
            </a:r>
            <a:r>
              <a:rPr b="1" lang="en-US" sz="4000" spc="-1" strike="noStrike">
                <a:solidFill>
                  <a:srgbClr val="254061"/>
                </a:solidFill>
                <a:latin typeface="Saysettha OT"/>
                <a:ea typeface="Saysettha OT"/>
              </a:rPr>
              <a:t>HIV (</a:t>
            </a: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ຕໍ່</a:t>
            </a:r>
            <a:r>
              <a:rPr b="1" lang="en-US" sz="4000" spc="-1" strike="noStrike">
                <a:solidFill>
                  <a:srgbClr val="254061"/>
                </a:solidFill>
                <a:latin typeface="Saysettha OT"/>
                <a:ea typeface="Saysettha O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2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ວ່າສະມາຊິກຄອບຄົວຂອງທ່ານເຈັບປ່ວຍຍ້ອນ ໂລກເອດສ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ທ່ານຢາກຈະດູແລ ແລະ ຮັກສາລາວໃວ້ຢູ່ໃນເຮືອນບໍ່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2A –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ວ່າເມັຽຮູ້ວ່າຜົວຂອງລາວມີພະຍາດທີ່ລາວສາມາດຕິດຕໍ່ໄດ້ໃນເວລາມີເພດສໍາພັນ ລາວຈະຢັ້ງຢືນ ແລະ ຮຽກຮ້ອງໃຫ້ຜົວຂອງລາວໃຊ້ຖົງຢາງອານາໃມກ່ອນມີເພດສໍາພັນ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2B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ບໍ່ທີ່ຜູ້ເປັນເມັຽຈະປະຕິເສດການມີເພດສໍາພັນກັບຜົວຂອງລາວເວລາທີ່ລາວຮູ້ວ່າຜົວຂອງລາວມີເພດສໍາພັນກັບຜູ້ອື່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54061"/>
                </a:solidFill>
                <a:latin typeface="Saysettha OT"/>
                <a:cs typeface="Saysettha OT"/>
              </a:rPr>
              <a:t>ຈຸດທີ່ຄວນອົາໃຈໃສ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ສໍາພາດຈະຕ້ອງເຮັດຢູ່ບ່ອນທີ່ເປັນສ່ວນຕົ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ໍ່ຄວນແນະນໍາຄໍາຕອບທີ່ຖືກຕ້ອງໃດໆໃຫ້ແກ່ຜູ້ຕອບສໍາພາ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ໍາຖາມຈາກ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16 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ະ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HA26,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ຈະຕ້ອງໃຫ້ມັນຈະແຈ້ງຕໍ່ຜູ້ຕອບຄໍາຖາມນັ້ນບໍ່ໄດ້ມີຈຸດປະສົງຈະສືບຄົ້ນຫາຜົນຂອງການເຮັດການທົດສອ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ັງເກດວ່າຄໍາຖາມຂໍ້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27A – 27I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ພົວພັນກັບ ພະຍາດຕິດຕໍ່ທາງເພດສໍາພັນ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ພຕພ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2819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Saysettha OT"/>
                <a:cs typeface="Saysettha OT"/>
                <a:hlinkClick r:id="rId1"/>
              </a:rPr>
              <a:t>ຄວາມຮູ້ກ່ຽວກັບ ພຕພ ແລະ ໂລກເອດ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Lao"/>
              </a:rPr>
              <a:t>Á®®¦º®«¾´Á´È¨ò¤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¡¾</a:t>
            </a:r>
            <a:r>
              <a:rPr b="1" lang="lo-LA" sz="4000" spc="-1" strike="noStrike">
                <a:solidFill>
                  <a:srgbClr val="002060"/>
                </a:solidFill>
                <a:latin typeface="Saysettha Lao"/>
                <a:cs typeface="DokChampa"/>
              </a:rPr>
              <a:t>ນ</a:t>
            </a:r>
            <a:r>
              <a:rPr b="1" lang="en-US" sz="4000" spc="-1" strike="noStrike">
                <a:solidFill>
                  <a:srgbClr val="002060"/>
                </a:solidFill>
                <a:latin typeface="Saysettha Lao"/>
              </a:rPr>
              <a:t>­ª¾¨¢º¤Á´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9480" y="1238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aysettha Lao"/>
              </a:rPr>
              <a:t>¡¾­</a:t>
            </a:r>
            <a:r>
              <a:rPr b="1" lang="lo-LA" sz="4000" spc="-1" strike="noStrike">
                <a:solidFill>
                  <a:srgbClr val="ff0000"/>
                </a:solidFill>
                <a:latin typeface="Saysettha Lao"/>
              </a:rPr>
              <a:t>ນ</a:t>
            </a:r>
            <a:r>
              <a:rPr b="1" lang="en-US" sz="4000" spc="-1" strike="noStrike">
                <a:solidFill>
                  <a:srgbClr val="ff0000"/>
                </a:solidFill>
                <a:latin typeface="Saysettha Lao"/>
              </a:rPr>
              <a:t>¦¿¹ì¸©©ñ©¦½­</a:t>
            </a:r>
            <a:r>
              <a:rPr b="1" lang="lo-LA" sz="4000" spc="-1" strike="noStrike">
                <a:solidFill>
                  <a:srgbClr val="ff0000"/>
                </a:solidFill>
                <a:latin typeface="Saysettha Lao"/>
              </a:rPr>
              <a:t>ນ</a:t>
            </a:r>
            <a:r>
              <a:rPr b="1" lang="en-US" sz="4000" spc="-1" strike="noStrike">
                <a:solidFill>
                  <a:srgbClr val="ff0000"/>
                </a:solidFill>
                <a:latin typeface="Saysettha Lao"/>
              </a:rPr>
              <a:t>ó Ï¾</a:t>
            </a:r>
            <a:r>
              <a:rPr b="1" lang="lo-LA" sz="4000" spc="-1" strike="noStrike">
                <a:solidFill>
                  <a:srgbClr val="ff0000"/>
                </a:solidFill>
                <a:latin typeface="Saysettha Lao"/>
              </a:rPr>
              <a:t>ຍ</a:t>
            </a:r>
            <a:r>
              <a:rPr b="1" lang="en-US" sz="4000" spc="-1" strike="noStrike">
                <a:solidFill>
                  <a:srgbClr val="ff0000"/>
                </a:solidFill>
                <a:latin typeface="Saysettha Lao"/>
              </a:rPr>
              <a:t>¨¦ñ¤£ö´</a:t>
            </a:r>
            <a:r>
              <a:rPr b="1" lang="lo-LA" sz="4000" spc="-1" strike="noStrike">
                <a:solidFill>
                  <a:srgbClr val="ff0000"/>
                </a:solidFill>
                <a:latin typeface="Saysettha Lao"/>
              </a:rPr>
              <a:t>ມ</a:t>
            </a:r>
            <a:r>
              <a:rPr b="1" lang="en-US" sz="4000" spc="-1" strike="noStrike">
                <a:solidFill>
                  <a:srgbClr val="ff0000"/>
                </a:solidFill>
                <a:latin typeface="Saysettha Lao"/>
              </a:rPr>
              <a:t>ì¾¸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Saysettha Lao"/>
              </a:rPr>
              <a:t>¡¾­</a:t>
            </a:r>
            <a:r>
              <a:rPr b="1" lang="lo-LA" sz="3200" spc="-1" strike="noStrike">
                <a:solidFill>
                  <a:srgbClr val="ff0000"/>
                </a:solidFill>
                <a:latin typeface="Saysettha Lao"/>
              </a:rPr>
              <a:t>ສ</a:t>
            </a:r>
            <a:r>
              <a:rPr b="1" lang="en-US" sz="3200" spc="-1" strike="noStrike">
                <a:solidFill>
                  <a:srgbClr val="ff0000"/>
                </a:solidFill>
                <a:latin typeface="Saysettha Lao"/>
              </a:rPr>
              <a:t>ô¡ºö®»ö</a:t>
            </a:r>
            <a:r>
              <a:rPr b="1" lang="lo-LA" sz="3200" spc="-1" strike="noStrike">
                <a:solidFill>
                  <a:srgbClr val="ff0000"/>
                </a:solidFill>
                <a:latin typeface="Saysettha Lao"/>
              </a:rPr>
              <a:t>ມນ</a:t>
            </a:r>
            <a:r>
              <a:rPr b="1" lang="en-US" sz="3200" spc="-1" strike="noStrike">
                <a:solidFill>
                  <a:srgbClr val="ff0000"/>
                </a:solidFill>
                <a:latin typeface="Saysettha Lao"/>
              </a:rPr>
              <a:t>­ñ¡À©ó­</a:t>
            </a:r>
            <a:r>
              <a:rPr b="1" lang="lo-LA" sz="3200" spc="-1" strike="noStrike">
                <a:solidFill>
                  <a:srgbClr val="ff0000"/>
                </a:solidFill>
                <a:latin typeface="Saysettha Lao"/>
              </a:rPr>
              <a:t>ນ</a:t>
            </a:r>
            <a:r>
              <a:rPr b="1" lang="en-US" sz="3200" spc="-1" strike="noStrike">
                <a:solidFill>
                  <a:srgbClr val="ff0000"/>
                </a:solidFill>
                <a:latin typeface="Saysettha Lao"/>
              </a:rPr>
              <a:t>¦¿¹ì¸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ysettha Lao"/>
              </a:rPr>
              <a:t>£¿</a:t>
            </a:r>
            <a:r>
              <a:rPr b="0" lang="lo-LA" sz="44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4400" spc="-1" strike="noStrike">
                <a:solidFill>
                  <a:srgbClr val="000000"/>
                </a:solidFill>
                <a:latin typeface="Saysettha Lao"/>
              </a:rPr>
              <a:t>­ò¨¾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¥¿­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¸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Á´Èª¾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ªÒ 100,000 ¡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À¡ó©´ó§ò¸ò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838080" y="533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ºñ©ª¾¦ú¸­¡¾­</a:t>
            </a:r>
            <a:r>
              <a:rPr b="0" lang="lo-LA" sz="37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ª¾</a:t>
            </a:r>
            <a:r>
              <a:rPr b="0" lang="lo-LA" sz="3700" spc="-1" strike="noStrike">
                <a:solidFill>
                  <a:srgbClr val="000000"/>
                </a:solidFill>
                <a:latin typeface="Saysettha Lao"/>
                <a:cs typeface="DokChampa"/>
              </a:rPr>
              <a:t>ຍ</a:t>
            </a: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¨¢º¤Á</a:t>
            </a:r>
            <a:r>
              <a:rPr b="0" lang="lo-LA" sz="37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È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Maternal Mortality Ratio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Saysettha Lao"/>
              </a:rPr>
              <a:t>(MMR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¦¾¨À¹©¡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ª¾¨¢º¤Á´ÈÃ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²¾¡²œ­  ¡¿ìñ¤²ñ©ê½­¾ Ã­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Âì¡ </a:t>
            </a:r>
            <a:r>
              <a:rPr b="0" lang="en-US" sz="1400" spc="-1" strike="noStrike">
                <a:solidFill>
                  <a:srgbClr val="000000"/>
                </a:solidFill>
                <a:latin typeface="Saysettha Lao"/>
              </a:rPr>
              <a:t>(1997/200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Content Placeholder 2"/>
          <p:cNvSpPr/>
          <p:nvPr/>
        </p:nvSpPr>
        <p:spPr>
          <a:xfrm>
            <a:off x="6019920" y="6019920"/>
            <a:ext cx="3276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urce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Millennium Development Goals Report, 2010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ited Nations, NY 201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520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ysettha Lao"/>
              </a:rPr>
              <a:t>¢È¾¸»É¾¨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ubtitle 2"/>
          <p:cNvSpPr/>
          <p:nvPr/>
        </p:nvSpPr>
        <p:spPr>
          <a:xfrm>
            <a:off x="457200" y="2133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¡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ª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¨¢º¤Á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¦È¸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Ã¹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Á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­¦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¾©¯Éº¤¡ñ­Ä©É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ubtitle 2"/>
          <p:cNvSpPr/>
          <p:nvPr/>
        </p:nvSpPr>
        <p:spPr>
          <a:xfrm>
            <a:off x="609480" y="38098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Ï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£¸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´¸È¾Á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È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ò¤ª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Â©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®Ò¥¿À¯ñ­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(®Ò¦ö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´À¹©¦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ö´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ຜ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ö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ysettha Lao"/>
              </a:rPr>
              <a:t>¢È¾¸©ó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ubtitle 2"/>
          <p:cNvSpPr/>
          <p:nvPr/>
        </p:nvSpPr>
        <p:spPr>
          <a:xfrm>
            <a:off x="609480" y="38098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Ï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¨£¸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´¸È¾²¸¡À»ö¾¦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¾©À»ñ©¦…¤Ã©Î‡¤ ¡È¼¸¡ñ®®ñ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¹¾</a:t>
            </a:r>
            <a:r>
              <a:rPr b="0" lang="lo-LA" sz="3200" spc="-1" strike="noStrike">
                <a:solidFill>
                  <a:srgbClr val="898989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898989"/>
                </a:solidFill>
                <a:latin typeface="Saysettha Lao"/>
              </a:rPr>
              <a:t>­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ubtitle 2"/>
          <p:cNvSpPr/>
          <p:nvPr/>
        </p:nvSpPr>
        <p:spPr>
          <a:xfrm>
            <a:off x="457200" y="2133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¡¾­ª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¨¢º¤Á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¦È¸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Ã¹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ຍ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Á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È­¦¾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ມ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¾©¯Éº¤¡ñ</a:t>
            </a:r>
            <a:r>
              <a:rPr b="0" lang="lo-LA" sz="3200" spc="-1" strike="noStrike">
                <a:solidFill>
                  <a:srgbClr val="000000"/>
                </a:solidFill>
                <a:latin typeface="Saysettha Lao"/>
                <a:cs typeface="DokChampa"/>
              </a:rPr>
              <a:t>ນ</a:t>
            </a:r>
            <a:r>
              <a:rPr b="0" lang="en-US" sz="3200" spc="-1" strike="noStrike">
                <a:solidFill>
                  <a:srgbClr val="000000"/>
                </a:solidFill>
                <a:latin typeface="Saysettha Lao"/>
              </a:rPr>
              <a:t>­Ä©É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5:01:22Z</dcterms:created>
  <dc:creator>USER</dc:creator>
  <dc:description/>
  <dc:language>en-US</dc:language>
  <cp:lastModifiedBy>USER</cp:lastModifiedBy>
  <cp:lastPrinted>2011-09-04T05:48:18Z</cp:lastPrinted>
  <dcterms:modified xsi:type="dcterms:W3CDTF">2011-09-04T06:06:32Z</dcterms:modified>
  <cp:revision>14</cp:revision>
  <dc:subject/>
  <dc:title>ການສຳຫຼວດດັດສະນີໝາຍສັງຄົມລາວ(LSIS)  ການອົບຮົມນັກເດີນສຳຫຼວດ</dc:title>
</cp:coreProperties>
</file>